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514508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77025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0720" y="2954520"/>
            <a:ext cx="77025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072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76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25320" y="115200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29560" y="115200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20720" y="295452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25320" y="295452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29560" y="295452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20720" y="1152000"/>
            <a:ext cx="77025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77025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20720" y="444600"/>
            <a:ext cx="770256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2072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20720" y="1152000"/>
            <a:ext cx="77025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776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20720" y="2954520"/>
            <a:ext cx="77025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77025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20720" y="2954520"/>
            <a:ext cx="77025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2072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776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25320" y="115200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29560" y="115200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20720" y="295452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25320" y="295452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29560" y="295452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20720" y="1152000"/>
            <a:ext cx="77025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77025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77025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20720" y="444600"/>
            <a:ext cx="770256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2072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776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20720" y="2954520"/>
            <a:ext cx="77025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77025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20720" y="2954520"/>
            <a:ext cx="77025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2072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776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25320" y="115200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29560" y="115200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20720" y="295452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25320" y="295452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29560" y="295452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20720" y="1152000"/>
            <a:ext cx="77025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77025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20720" y="444600"/>
            <a:ext cx="770256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2072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776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20720" y="2954520"/>
            <a:ext cx="77025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77025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20720" y="2954520"/>
            <a:ext cx="77025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2072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776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25320" y="115200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29560" y="115200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20720" y="295452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25320" y="295452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29560" y="295452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20720" y="1152000"/>
            <a:ext cx="77025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77025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720720" y="444600"/>
            <a:ext cx="770256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2072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776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20720" y="2954520"/>
            <a:ext cx="77025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77025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20720" y="2954520"/>
            <a:ext cx="77025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2072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776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20720" y="444600"/>
            <a:ext cx="770256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25320" y="115200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9560" y="115200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20720" y="295452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25320" y="295452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9560" y="295452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0720" y="1152000"/>
            <a:ext cx="77025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77025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20720" y="444600"/>
            <a:ext cx="770256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2072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776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20720" y="2954520"/>
            <a:ext cx="77025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2072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77025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20720" y="2954520"/>
            <a:ext cx="77025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2072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776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25320" y="115200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29560" y="115200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20720" y="295452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25320" y="295452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29560" y="295452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20720" y="1152000"/>
            <a:ext cx="77025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77025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720720" y="444600"/>
            <a:ext cx="770256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2072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76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6776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20720" y="2954520"/>
            <a:ext cx="77025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77025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20720" y="2954520"/>
            <a:ext cx="77025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2072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6776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325320" y="115200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929560" y="115200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20720" y="295452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325320" y="295452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929560" y="295452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720720" y="1152000"/>
            <a:ext cx="77025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77025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0720" y="2954520"/>
            <a:ext cx="77025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720720" y="444600"/>
            <a:ext cx="770256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2072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776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20720" y="2954520"/>
            <a:ext cx="77025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77025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20720" y="2954520"/>
            <a:ext cx="77025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7760" y="115200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2072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7760" y="2954520"/>
            <a:ext cx="375876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20720" y="115200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25320" y="115200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29560" y="115200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720720" y="295452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25320" y="295452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29560" y="2954520"/>
            <a:ext cx="2480040" cy="164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152000"/>
            <a:ext cx="77025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2632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2632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Google Shape;9;p2"/>
          <p:cNvSpPr/>
          <p:nvPr/>
        </p:nvSpPr>
        <p:spPr>
          <a:xfrm>
            <a:off x="8799480" y="4718160"/>
            <a:ext cx="509760" cy="509400"/>
          </a:xfrm>
          <a:prstGeom prst="ellipse">
            <a:avLst/>
          </a:prstGeom>
          <a:solidFill>
            <a:srgbClr val="ffc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Google Shape;10;p2"/>
          <p:cNvSpPr/>
          <p:nvPr/>
        </p:nvSpPr>
        <p:spPr>
          <a:xfrm>
            <a:off x="7999560" y="-1603440"/>
            <a:ext cx="2495520" cy="2495520"/>
          </a:xfrm>
          <a:prstGeom prst="ellipse">
            <a:avLst/>
          </a:prstGeom>
          <a:solidFill>
            <a:srgbClr val="3c7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Google Shape;11;p2"/>
          <p:cNvSpPr/>
          <p:nvPr/>
        </p:nvSpPr>
        <p:spPr>
          <a:xfrm>
            <a:off x="1415880" y="4603680"/>
            <a:ext cx="2495880" cy="2495520"/>
          </a:xfrm>
          <a:prstGeom prst="ellipse">
            <a:avLst/>
          </a:prstGeom>
          <a:solidFill>
            <a:srgbClr val="3c7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Google Shape;12;p2"/>
          <p:cNvSpPr/>
          <p:nvPr/>
        </p:nvSpPr>
        <p:spPr>
          <a:xfrm>
            <a:off x="-1316160" y="-1603440"/>
            <a:ext cx="2495520" cy="2495520"/>
          </a:xfrm>
          <a:prstGeom prst="ellipse">
            <a:avLst/>
          </a:prstGeom>
          <a:solidFill>
            <a:srgbClr val="3c7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Google Shape;15;p2"/>
          <p:cNvSpPr/>
          <p:nvPr/>
        </p:nvSpPr>
        <p:spPr>
          <a:xfrm>
            <a:off x="3738600" y="539640"/>
            <a:ext cx="509400" cy="509760"/>
          </a:xfrm>
          <a:prstGeom prst="ellipse">
            <a:avLst/>
          </a:prstGeom>
          <a:solidFill>
            <a:srgbClr val="ffc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20720" y="1152000"/>
            <a:ext cx="77025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2632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2632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Google Shape;92;p9"/>
          <p:cNvSpPr/>
          <p:nvPr/>
        </p:nvSpPr>
        <p:spPr>
          <a:xfrm flipH="1" rot="10800000">
            <a:off x="-1403280" y="-1652400"/>
            <a:ext cx="2495520" cy="2495880"/>
          </a:xfrm>
          <a:prstGeom prst="ellipse">
            <a:avLst/>
          </a:prstGeom>
          <a:solidFill>
            <a:srgbClr val="3c7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Google Shape;93;p9"/>
          <p:cNvSpPr/>
          <p:nvPr/>
        </p:nvSpPr>
        <p:spPr>
          <a:xfrm flipH="1" rot="10800000">
            <a:off x="-291960" y="952200"/>
            <a:ext cx="511200" cy="509400"/>
          </a:xfrm>
          <a:prstGeom prst="ellipse">
            <a:avLst/>
          </a:prstGeom>
          <a:solidFill>
            <a:srgbClr val="ffc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20720" y="1152000"/>
            <a:ext cx="77025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2632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2632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Google Shape;96;p10"/>
          <p:cNvSpPr/>
          <p:nvPr/>
        </p:nvSpPr>
        <p:spPr>
          <a:xfrm flipH="1" rot="10800000">
            <a:off x="8426520" y="-1652400"/>
            <a:ext cx="2495520" cy="2495880"/>
          </a:xfrm>
          <a:prstGeom prst="ellipse">
            <a:avLst/>
          </a:prstGeom>
          <a:solidFill>
            <a:srgbClr val="3c7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Google Shape;97;p10"/>
          <p:cNvSpPr/>
          <p:nvPr/>
        </p:nvSpPr>
        <p:spPr>
          <a:xfrm flipH="1" rot="10800000">
            <a:off x="8924760" y="952200"/>
            <a:ext cx="511200" cy="509400"/>
          </a:xfrm>
          <a:prstGeom prst="ellipse">
            <a:avLst/>
          </a:prstGeom>
          <a:solidFill>
            <a:srgbClr val="ffc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Google Shape;98;p10"/>
          <p:cNvSpPr/>
          <p:nvPr/>
        </p:nvSpPr>
        <p:spPr>
          <a:xfrm flipH="1" rot="10800000">
            <a:off x="-1403280" y="-1652400"/>
            <a:ext cx="2495520" cy="2495880"/>
          </a:xfrm>
          <a:prstGeom prst="ellipse">
            <a:avLst/>
          </a:prstGeom>
          <a:solidFill>
            <a:srgbClr val="3c7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Google Shape;99;p10"/>
          <p:cNvSpPr/>
          <p:nvPr/>
        </p:nvSpPr>
        <p:spPr>
          <a:xfrm flipH="1" rot="10800000">
            <a:off x="-291960" y="952200"/>
            <a:ext cx="511200" cy="509400"/>
          </a:xfrm>
          <a:prstGeom prst="ellipse">
            <a:avLst/>
          </a:prstGeom>
          <a:solidFill>
            <a:srgbClr val="ffc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20720" y="1152000"/>
            <a:ext cx="77025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2632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2632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Google Shape;124;p13"/>
          <p:cNvSpPr/>
          <p:nvPr/>
        </p:nvSpPr>
        <p:spPr>
          <a:xfrm flipH="1">
            <a:off x="8243280" y="4280040"/>
            <a:ext cx="2493720" cy="2495520"/>
          </a:xfrm>
          <a:prstGeom prst="ellipse">
            <a:avLst/>
          </a:prstGeom>
          <a:solidFill>
            <a:srgbClr val="3c7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Google Shape;125;p13"/>
          <p:cNvSpPr/>
          <p:nvPr/>
        </p:nvSpPr>
        <p:spPr>
          <a:xfrm flipH="1">
            <a:off x="-216720" y="4603680"/>
            <a:ext cx="849240" cy="849240"/>
          </a:xfrm>
          <a:prstGeom prst="ellipse">
            <a:avLst/>
          </a:prstGeom>
          <a:solidFill>
            <a:srgbClr val="3c7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Google Shape;126;p13"/>
          <p:cNvSpPr/>
          <p:nvPr/>
        </p:nvSpPr>
        <p:spPr>
          <a:xfrm flipH="1">
            <a:off x="-1038240" y="-1779480"/>
            <a:ext cx="2495520" cy="2495520"/>
          </a:xfrm>
          <a:prstGeom prst="ellipse">
            <a:avLst/>
          </a:prstGeom>
          <a:solidFill>
            <a:srgbClr val="3c7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Google Shape;127;p13"/>
          <p:cNvSpPr/>
          <p:nvPr/>
        </p:nvSpPr>
        <p:spPr>
          <a:xfrm flipH="1">
            <a:off x="-219240" y="865080"/>
            <a:ext cx="509760" cy="509760"/>
          </a:xfrm>
          <a:prstGeom prst="ellipse">
            <a:avLst/>
          </a:prstGeom>
          <a:solidFill>
            <a:srgbClr val="ffc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Google Shape;128;p13"/>
          <p:cNvSpPr/>
          <p:nvPr/>
        </p:nvSpPr>
        <p:spPr>
          <a:xfrm flipH="1">
            <a:off x="7827840" y="-239760"/>
            <a:ext cx="509760" cy="509760"/>
          </a:xfrm>
          <a:prstGeom prst="ellipse">
            <a:avLst/>
          </a:prstGeom>
          <a:solidFill>
            <a:srgbClr val="3c7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Google Shape;129;p13"/>
          <p:cNvSpPr/>
          <p:nvPr/>
        </p:nvSpPr>
        <p:spPr>
          <a:xfrm flipH="1">
            <a:off x="8336880" y="-133200"/>
            <a:ext cx="849240" cy="849240"/>
          </a:xfrm>
          <a:prstGeom prst="ellipse">
            <a:avLst/>
          </a:prstGeom>
          <a:solidFill>
            <a:srgbClr val="ffc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20720" y="1152000"/>
            <a:ext cx="77025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2632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2632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7" name="Google Shape;135;p14"/>
          <p:cNvCxnSpPr/>
          <p:nvPr/>
        </p:nvCxnSpPr>
        <p:spPr>
          <a:xfrm>
            <a:off x="796680" y="2257200"/>
            <a:ext cx="849960" cy="1080"/>
          </a:xfrm>
          <a:prstGeom prst="straightConnector1">
            <a:avLst/>
          </a:prstGeom>
          <a:ln w="28440">
            <a:solidFill>
              <a:srgbClr val="dbdbdb"/>
            </a:solidFill>
            <a:miter/>
          </a:ln>
        </p:spPr>
      </p:cxnSp>
      <p:cxnSp>
        <p:nvCxnSpPr>
          <p:cNvPr id="208" name="Google Shape;139;p14"/>
          <p:cNvCxnSpPr/>
          <p:nvPr/>
        </p:nvCxnSpPr>
        <p:spPr>
          <a:xfrm>
            <a:off x="796680" y="3419280"/>
            <a:ext cx="849960" cy="1080"/>
          </a:xfrm>
          <a:prstGeom prst="straightConnector1">
            <a:avLst/>
          </a:prstGeom>
          <a:ln w="28440">
            <a:solidFill>
              <a:srgbClr val="dbdbdb"/>
            </a:solidFill>
            <a:miter/>
          </a:ln>
        </p:spPr>
      </p:cxnSp>
      <p:cxnSp>
        <p:nvCxnSpPr>
          <p:cNvPr id="209" name="Google Shape;143;p14"/>
          <p:cNvCxnSpPr/>
          <p:nvPr/>
        </p:nvCxnSpPr>
        <p:spPr>
          <a:xfrm>
            <a:off x="796680" y="4582800"/>
            <a:ext cx="849960" cy="1080"/>
          </a:xfrm>
          <a:prstGeom prst="straightConnector1">
            <a:avLst/>
          </a:prstGeom>
          <a:ln w="28440">
            <a:solidFill>
              <a:srgbClr val="dbdbdb"/>
            </a:solidFill>
            <a:miter/>
          </a:ln>
        </p:spPr>
      </p:cxnSp>
      <p:cxnSp>
        <p:nvCxnSpPr>
          <p:cNvPr id="210" name="Google Shape;147;p14"/>
          <p:cNvCxnSpPr/>
          <p:nvPr/>
        </p:nvCxnSpPr>
        <p:spPr>
          <a:xfrm>
            <a:off x="4983120" y="2257200"/>
            <a:ext cx="851760" cy="1080"/>
          </a:xfrm>
          <a:prstGeom prst="straightConnector1">
            <a:avLst/>
          </a:prstGeom>
          <a:ln w="28440">
            <a:solidFill>
              <a:srgbClr val="dbdbdb"/>
            </a:solidFill>
            <a:miter/>
          </a:ln>
        </p:spPr>
      </p:cxnSp>
      <p:cxnSp>
        <p:nvCxnSpPr>
          <p:cNvPr id="211" name="Google Shape;151;p14"/>
          <p:cNvCxnSpPr/>
          <p:nvPr/>
        </p:nvCxnSpPr>
        <p:spPr>
          <a:xfrm>
            <a:off x="4983120" y="3419280"/>
            <a:ext cx="851760" cy="1080"/>
          </a:xfrm>
          <a:prstGeom prst="straightConnector1">
            <a:avLst/>
          </a:prstGeom>
          <a:ln w="28440">
            <a:solidFill>
              <a:srgbClr val="dbdbdb"/>
            </a:solidFill>
            <a:miter/>
          </a:ln>
        </p:spPr>
      </p:cxnSp>
      <p:cxnSp>
        <p:nvCxnSpPr>
          <p:cNvPr id="212" name="Google Shape;155;p14"/>
          <p:cNvCxnSpPr/>
          <p:nvPr/>
        </p:nvCxnSpPr>
        <p:spPr>
          <a:xfrm>
            <a:off x="4983120" y="4582800"/>
            <a:ext cx="851760" cy="1080"/>
          </a:xfrm>
          <a:prstGeom prst="straightConnector1">
            <a:avLst/>
          </a:prstGeom>
          <a:ln w="28440">
            <a:solidFill>
              <a:srgbClr val="dbdbdb"/>
            </a:solidFill>
            <a:miter/>
          </a:ln>
        </p:spPr>
      </p:cxnSp>
      <p:sp>
        <p:nvSpPr>
          <p:cNvPr id="213" name="Google Shape;156;p14"/>
          <p:cNvSpPr/>
          <p:nvPr/>
        </p:nvSpPr>
        <p:spPr>
          <a:xfrm>
            <a:off x="8597880" y="4788000"/>
            <a:ext cx="849240" cy="849240"/>
          </a:xfrm>
          <a:prstGeom prst="ellipse">
            <a:avLst/>
          </a:prstGeom>
          <a:solidFill>
            <a:srgbClr val="3c7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Google Shape;157;p14"/>
          <p:cNvSpPr/>
          <p:nvPr/>
        </p:nvSpPr>
        <p:spPr>
          <a:xfrm>
            <a:off x="7443720" y="-1652760"/>
            <a:ext cx="2494080" cy="2495880"/>
          </a:xfrm>
          <a:prstGeom prst="ellipse">
            <a:avLst/>
          </a:prstGeom>
          <a:solidFill>
            <a:srgbClr val="3c7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Google Shape;158;p14"/>
          <p:cNvSpPr/>
          <p:nvPr/>
        </p:nvSpPr>
        <p:spPr>
          <a:xfrm>
            <a:off x="-1490760" y="-1549440"/>
            <a:ext cx="2495520" cy="2495520"/>
          </a:xfrm>
          <a:prstGeom prst="ellipse">
            <a:avLst/>
          </a:prstGeom>
          <a:solidFill>
            <a:srgbClr val="3c7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Google Shape;159;p14"/>
          <p:cNvSpPr/>
          <p:nvPr/>
        </p:nvSpPr>
        <p:spPr>
          <a:xfrm>
            <a:off x="8767800" y="1017720"/>
            <a:ext cx="509400" cy="509400"/>
          </a:xfrm>
          <a:prstGeom prst="ellipse">
            <a:avLst/>
          </a:prstGeom>
          <a:solidFill>
            <a:srgbClr val="ffc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Google Shape;160;p14"/>
          <p:cNvSpPr/>
          <p:nvPr/>
        </p:nvSpPr>
        <p:spPr>
          <a:xfrm>
            <a:off x="-154080" y="4865760"/>
            <a:ext cx="509760" cy="509400"/>
          </a:xfrm>
          <a:prstGeom prst="ellipse">
            <a:avLst/>
          </a:prstGeom>
          <a:solidFill>
            <a:srgbClr val="3c7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20720" y="1152000"/>
            <a:ext cx="77025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2632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2632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Google Shape;312;p29"/>
          <p:cNvSpPr/>
          <p:nvPr/>
        </p:nvSpPr>
        <p:spPr>
          <a:xfrm>
            <a:off x="8421840" y="-765000"/>
            <a:ext cx="2495520" cy="2493720"/>
          </a:xfrm>
          <a:prstGeom prst="ellipse">
            <a:avLst/>
          </a:prstGeom>
          <a:solidFill>
            <a:srgbClr val="3c7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Google Shape;313;p29"/>
          <p:cNvSpPr/>
          <p:nvPr/>
        </p:nvSpPr>
        <p:spPr>
          <a:xfrm>
            <a:off x="7764480" y="-142920"/>
            <a:ext cx="509400" cy="509760"/>
          </a:xfrm>
          <a:prstGeom prst="ellipse">
            <a:avLst/>
          </a:prstGeom>
          <a:solidFill>
            <a:srgbClr val="ffc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oogle Shape;314;p29"/>
          <p:cNvSpPr/>
          <p:nvPr/>
        </p:nvSpPr>
        <p:spPr>
          <a:xfrm>
            <a:off x="8613720" y="4603680"/>
            <a:ext cx="851040" cy="849240"/>
          </a:xfrm>
          <a:prstGeom prst="ellipse">
            <a:avLst/>
          </a:prstGeom>
          <a:solidFill>
            <a:srgbClr val="3c7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Google Shape;315;p29"/>
          <p:cNvSpPr/>
          <p:nvPr/>
        </p:nvSpPr>
        <p:spPr>
          <a:xfrm>
            <a:off x="-154080" y="4863960"/>
            <a:ext cx="511200" cy="509760"/>
          </a:xfrm>
          <a:prstGeom prst="ellipse">
            <a:avLst/>
          </a:prstGeom>
          <a:solidFill>
            <a:srgbClr val="3c7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20720" y="1152000"/>
            <a:ext cx="77025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2632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2632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Google Shape;324;p31"/>
          <p:cNvSpPr/>
          <p:nvPr/>
        </p:nvSpPr>
        <p:spPr>
          <a:xfrm rot="10800000">
            <a:off x="-130320" y="-243000"/>
            <a:ext cx="851040" cy="849600"/>
          </a:xfrm>
          <a:prstGeom prst="ellipse">
            <a:avLst/>
          </a:prstGeom>
          <a:solidFill>
            <a:srgbClr val="3c7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Google Shape;325;p31"/>
          <p:cNvSpPr/>
          <p:nvPr/>
        </p:nvSpPr>
        <p:spPr>
          <a:xfrm rot="10800000">
            <a:off x="833400" y="4557600"/>
            <a:ext cx="2495520" cy="2495520"/>
          </a:xfrm>
          <a:prstGeom prst="ellipse">
            <a:avLst/>
          </a:prstGeom>
          <a:solidFill>
            <a:srgbClr val="3c7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Google Shape;326;p31"/>
          <p:cNvSpPr/>
          <p:nvPr/>
        </p:nvSpPr>
        <p:spPr>
          <a:xfrm rot="10800000">
            <a:off x="323640" y="4663800"/>
            <a:ext cx="509400" cy="509400"/>
          </a:xfrm>
          <a:prstGeom prst="ellipse">
            <a:avLst/>
          </a:prstGeom>
          <a:solidFill>
            <a:srgbClr val="ffc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Google Shape;327;p31"/>
          <p:cNvSpPr/>
          <p:nvPr/>
        </p:nvSpPr>
        <p:spPr>
          <a:xfrm rot="10800000">
            <a:off x="8423280" y="-243000"/>
            <a:ext cx="851040" cy="849600"/>
          </a:xfrm>
          <a:prstGeom prst="ellipse">
            <a:avLst/>
          </a:prstGeom>
          <a:solidFill>
            <a:srgbClr val="3c7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Google Shape;328;p31"/>
          <p:cNvSpPr/>
          <p:nvPr/>
        </p:nvSpPr>
        <p:spPr>
          <a:xfrm rot="10800000">
            <a:off x="968040" y="-73080"/>
            <a:ext cx="509400" cy="509760"/>
          </a:xfrm>
          <a:prstGeom prst="ellipse">
            <a:avLst/>
          </a:prstGeom>
          <a:solidFill>
            <a:srgbClr val="ffc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0720" y="444600"/>
            <a:ext cx="770256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20720" y="1152000"/>
            <a:ext cx="7702560" cy="34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2632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2632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Группа 288"/>
          <p:cNvGrpSpPr/>
          <p:nvPr/>
        </p:nvGrpSpPr>
        <p:grpSpPr>
          <a:xfrm>
            <a:off x="4284720" y="700200"/>
            <a:ext cx="4859280" cy="4032000"/>
            <a:chOff x="4284720" y="700200"/>
            <a:chExt cx="4859280" cy="4032000"/>
          </a:xfrm>
        </p:grpSpPr>
        <p:pic>
          <p:nvPicPr>
            <p:cNvPr id="342" name="Picture 2" descr=""/>
            <p:cNvPicPr/>
            <p:nvPr/>
          </p:nvPicPr>
          <p:blipFill>
            <a:blip r:embed="rId1"/>
            <a:srcRect l="10517" t="40496" r="18207" b="22315"/>
            <a:stretch/>
          </p:blipFill>
          <p:spPr>
            <a:xfrm>
              <a:off x="4400640" y="1103400"/>
              <a:ext cx="4743360" cy="36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Прямоугольник 287"/>
            <p:cNvSpPr/>
            <p:nvPr/>
          </p:nvSpPr>
          <p:spPr>
            <a:xfrm>
              <a:off x="4284720" y="700200"/>
              <a:ext cx="1555560" cy="10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71320" y="1928880"/>
            <a:ext cx="4863960" cy="1071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 виконання бюджету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итомирської міської територіальної гром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 І кв 2022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Google Shape;339;p34"/>
          <p:cNvCxnSpPr/>
          <p:nvPr/>
        </p:nvCxnSpPr>
        <p:spPr>
          <a:xfrm>
            <a:off x="796680" y="2990520"/>
            <a:ext cx="3523320" cy="1080"/>
          </a:xfrm>
          <a:prstGeom prst="straightConnector1">
            <a:avLst/>
          </a:prstGeom>
          <a:ln w="28440">
            <a:solidFill>
              <a:srgbClr val="ffc727"/>
            </a:solidFill>
            <a:miter/>
          </a:ln>
        </p:spPr>
      </p:cxnSp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3492360" y="4511520"/>
            <a:ext cx="3152880" cy="6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oogle Shape;7244;p71"/>
          <p:cNvGrpSpPr/>
          <p:nvPr/>
        </p:nvGrpSpPr>
        <p:grpSpPr>
          <a:xfrm>
            <a:off x="1042920" y="0"/>
            <a:ext cx="8101080" cy="4064040"/>
            <a:chOff x="1042920" y="0"/>
            <a:chExt cx="8101080" cy="4064040"/>
          </a:xfrm>
        </p:grpSpPr>
        <p:sp>
          <p:nvSpPr>
            <p:cNvPr id="348" name="Google Shape;7250;p71"/>
            <p:cNvSpPr/>
            <p:nvPr/>
          </p:nvSpPr>
          <p:spPr>
            <a:xfrm>
              <a:off x="3419280" y="0"/>
              <a:ext cx="2232360" cy="2091600"/>
            </a:xfrm>
            <a:custGeom>
              <a:avLst/>
              <a:gdLst>
                <a:gd name="textAreaLeft" fmla="*/ 0 w 2232360"/>
                <a:gd name="textAreaRight" fmla="*/ 2232720 w 2232360"/>
                <a:gd name="textAreaTop" fmla="*/ 0 h 2091600"/>
                <a:gd name="textAreaBottom" fmla="*/ 2091600 h 2091600"/>
              </a:gdLst>
              <a:ahLst/>
              <a:rect l="textAreaLeft" t="textAreaTop" r="textAreaRight" b="textAreaBottom"/>
              <a:pathLst>
                <a:path w="20082" h="20115">
                  <a:moveTo>
                    <a:pt x="10041" y="1"/>
                  </a:moveTo>
                  <a:cubicBezTo>
                    <a:pt x="4503" y="1"/>
                    <a:pt x="0" y="4504"/>
                    <a:pt x="0" y="10041"/>
                  </a:cubicBezTo>
                  <a:cubicBezTo>
                    <a:pt x="0" y="15612"/>
                    <a:pt x="4503" y="20115"/>
                    <a:pt x="10041" y="20115"/>
                  </a:cubicBezTo>
                  <a:cubicBezTo>
                    <a:pt x="15578" y="20115"/>
                    <a:pt x="20081" y="15612"/>
                    <a:pt x="20081" y="10041"/>
                  </a:cubicBezTo>
                  <a:cubicBezTo>
                    <a:pt x="20081" y="4504"/>
                    <a:pt x="15578" y="1"/>
                    <a:pt x="10041" y="1"/>
                  </a:cubicBezTo>
                  <a:close/>
                </a:path>
              </a:pathLst>
            </a:custGeom>
            <a:solidFill>
              <a:srgbClr val="cfd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Google Shape;7253;p71"/>
            <p:cNvSpPr/>
            <p:nvPr/>
          </p:nvSpPr>
          <p:spPr>
            <a:xfrm>
              <a:off x="1042920" y="627120"/>
              <a:ext cx="1589040" cy="1441440"/>
            </a:xfrm>
            <a:custGeom>
              <a:avLst/>
              <a:gdLst/>
              <a:ahLst/>
              <a:rect l="l" t="t" r="r" b="b"/>
              <a:pathLst>
                <a:path w="15345" h="14873">
                  <a:moveTo>
                    <a:pt x="7692" y="1"/>
                  </a:moveTo>
                  <a:cubicBezTo>
                    <a:pt x="7531" y="1"/>
                    <a:pt x="7369" y="6"/>
                    <a:pt x="7206" y="16"/>
                  </a:cubicBezTo>
                  <a:cubicBezTo>
                    <a:pt x="3136" y="283"/>
                    <a:pt x="0" y="3786"/>
                    <a:pt x="267" y="7889"/>
                  </a:cubicBezTo>
                  <a:cubicBezTo>
                    <a:pt x="493" y="11846"/>
                    <a:pt x="3790" y="14873"/>
                    <a:pt x="7706" y="14873"/>
                  </a:cubicBezTo>
                  <a:cubicBezTo>
                    <a:pt x="7850" y="14873"/>
                    <a:pt x="7994" y="14869"/>
                    <a:pt x="8140" y="14860"/>
                  </a:cubicBezTo>
                  <a:cubicBezTo>
                    <a:pt x="12243" y="14594"/>
                    <a:pt x="15345" y="11058"/>
                    <a:pt x="15111" y="6988"/>
                  </a:cubicBezTo>
                  <a:cubicBezTo>
                    <a:pt x="14855" y="3048"/>
                    <a:pt x="11585" y="1"/>
                    <a:pt x="7692" y="1"/>
                  </a:cubicBez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Google Shape;7255;p71"/>
            <p:cNvSpPr/>
            <p:nvPr/>
          </p:nvSpPr>
          <p:spPr>
            <a:xfrm>
              <a:off x="7343640" y="2572200"/>
              <a:ext cx="1800360" cy="1491840"/>
            </a:xfrm>
            <a:custGeom>
              <a:avLst/>
              <a:gdLst>
                <a:gd name="textAreaLeft" fmla="*/ 0 w 1800360"/>
                <a:gd name="textAreaRight" fmla="*/ 1800720 w 1800360"/>
                <a:gd name="textAreaTop" fmla="*/ 0 h 1491840"/>
                <a:gd name="textAreaBottom" fmla="*/ 1492200 h 1491840"/>
              </a:gdLst>
              <a:ahLst/>
              <a:rect l="textAreaLeft" t="textAreaTop" r="textAreaRight" b="textAreaBottom"/>
              <a:pathLst>
                <a:path w="11576" h="10777">
                  <a:moveTo>
                    <a:pt x="5787" y="0"/>
                  </a:moveTo>
                  <a:cubicBezTo>
                    <a:pt x="3185" y="0"/>
                    <a:pt x="889" y="1889"/>
                    <a:pt x="468" y="4538"/>
                  </a:cubicBezTo>
                  <a:cubicBezTo>
                    <a:pt x="1" y="7473"/>
                    <a:pt x="2002" y="10208"/>
                    <a:pt x="4938" y="10709"/>
                  </a:cubicBezTo>
                  <a:cubicBezTo>
                    <a:pt x="5221" y="10754"/>
                    <a:pt x="5503" y="10776"/>
                    <a:pt x="5781" y="10776"/>
                  </a:cubicBezTo>
                  <a:cubicBezTo>
                    <a:pt x="8358" y="10776"/>
                    <a:pt x="10654" y="8888"/>
                    <a:pt x="11075" y="6239"/>
                  </a:cubicBezTo>
                  <a:cubicBezTo>
                    <a:pt x="11576" y="3303"/>
                    <a:pt x="9574" y="535"/>
                    <a:pt x="6639" y="68"/>
                  </a:cubicBezTo>
                  <a:cubicBezTo>
                    <a:pt x="6352" y="22"/>
                    <a:pt x="6068" y="0"/>
                    <a:pt x="5787" y="0"/>
                  </a:cubicBezTo>
                  <a:close/>
                </a:path>
              </a:pathLst>
            </a:custGeom>
            <a:solidFill>
              <a:srgbClr val="5f7d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Box 40"/>
          <p:cNvSpPr/>
          <p:nvPr/>
        </p:nvSpPr>
        <p:spPr>
          <a:xfrm>
            <a:off x="3627000" y="291960"/>
            <a:ext cx="190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дходж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 І кв 2022 р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41"/>
          <p:cNvSpPr/>
          <p:nvPr/>
        </p:nvSpPr>
        <p:spPr>
          <a:xfrm>
            <a:off x="3613320" y="1011240"/>
            <a:ext cx="186516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70c0"/>
                </a:solidFill>
                <a:latin typeface="Impact"/>
              </a:rPr>
              <a:t>791,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Narrow"/>
              </a:rPr>
              <a:t>млн  г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Google Shape;7253;p71"/>
          <p:cNvSpPr/>
          <p:nvPr/>
        </p:nvSpPr>
        <p:spPr>
          <a:xfrm>
            <a:off x="6372360" y="627120"/>
            <a:ext cx="1589040" cy="1439640"/>
          </a:xfrm>
          <a:custGeom>
            <a:avLst/>
            <a:gdLst>
              <a:gd name="textAreaLeft" fmla="*/ 0 w 1589040"/>
              <a:gd name="textAreaRight" fmla="*/ 1589400 w 15890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15345" h="14873">
                <a:moveTo>
                  <a:pt x="7692" y="1"/>
                </a:moveTo>
                <a:cubicBezTo>
                  <a:pt x="7531" y="1"/>
                  <a:pt x="7369" y="6"/>
                  <a:pt x="7206" y="16"/>
                </a:cubicBezTo>
                <a:cubicBezTo>
                  <a:pt x="3136" y="283"/>
                  <a:pt x="0" y="3786"/>
                  <a:pt x="267" y="7889"/>
                </a:cubicBezTo>
                <a:cubicBezTo>
                  <a:pt x="493" y="11846"/>
                  <a:pt x="3790" y="14873"/>
                  <a:pt x="7706" y="14873"/>
                </a:cubicBezTo>
                <a:cubicBezTo>
                  <a:pt x="7850" y="14873"/>
                  <a:pt x="7994" y="14869"/>
                  <a:pt x="8140" y="14860"/>
                </a:cubicBezTo>
                <a:cubicBezTo>
                  <a:pt x="12243" y="14594"/>
                  <a:pt x="15345" y="11058"/>
                  <a:pt x="15111" y="6988"/>
                </a:cubicBezTo>
                <a:cubicBezTo>
                  <a:pt x="14855" y="3048"/>
                  <a:pt x="11585" y="1"/>
                  <a:pt x="7692" y="1"/>
                </a:cubicBezTo>
                <a:close/>
              </a:path>
            </a:pathLst>
          </a:custGeom>
          <a:solidFill>
            <a:srgbClr val="869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45"/>
          <p:cNvSpPr/>
          <p:nvPr/>
        </p:nvSpPr>
        <p:spPr>
          <a:xfrm>
            <a:off x="6380280" y="84312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 Black"/>
              </a:rPr>
              <a:t>Спеціаль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 Black"/>
              </a:rPr>
              <a:t>фон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46"/>
          <p:cNvSpPr/>
          <p:nvPr/>
        </p:nvSpPr>
        <p:spPr>
          <a:xfrm>
            <a:off x="6156360" y="1257480"/>
            <a:ext cx="1863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Impact"/>
              </a:rPr>
              <a:t>6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Narrow"/>
              </a:rPr>
              <a:t>млн  г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Группа 61"/>
          <p:cNvGrpSpPr/>
          <p:nvPr/>
        </p:nvGrpSpPr>
        <p:grpSpPr>
          <a:xfrm>
            <a:off x="-28440" y="2736720"/>
            <a:ext cx="1863720" cy="1490760"/>
            <a:chOff x="-28440" y="2736720"/>
            <a:chExt cx="1863720" cy="1490760"/>
          </a:xfrm>
        </p:grpSpPr>
        <p:sp>
          <p:nvSpPr>
            <p:cNvPr id="357" name="Google Shape;7255;p71"/>
            <p:cNvSpPr/>
            <p:nvPr/>
          </p:nvSpPr>
          <p:spPr>
            <a:xfrm>
              <a:off x="14400" y="2736720"/>
              <a:ext cx="1800360" cy="1490760"/>
            </a:xfrm>
            <a:custGeom>
              <a:avLst/>
              <a:gdLst/>
              <a:ahLst/>
              <a:rect l="l" t="t" r="r" b="b"/>
              <a:pathLst>
                <a:path w="11576" h="10777">
                  <a:moveTo>
                    <a:pt x="5787" y="0"/>
                  </a:moveTo>
                  <a:cubicBezTo>
                    <a:pt x="3185" y="0"/>
                    <a:pt x="889" y="1889"/>
                    <a:pt x="468" y="4538"/>
                  </a:cubicBezTo>
                  <a:cubicBezTo>
                    <a:pt x="1" y="7473"/>
                    <a:pt x="2002" y="10208"/>
                    <a:pt x="4938" y="10709"/>
                  </a:cubicBezTo>
                  <a:cubicBezTo>
                    <a:pt x="5221" y="10754"/>
                    <a:pt x="5503" y="10776"/>
                    <a:pt x="5781" y="10776"/>
                  </a:cubicBezTo>
                  <a:cubicBezTo>
                    <a:pt x="8358" y="10776"/>
                    <a:pt x="10654" y="8888"/>
                    <a:pt x="11075" y="6239"/>
                  </a:cubicBezTo>
                  <a:cubicBezTo>
                    <a:pt x="11576" y="3303"/>
                    <a:pt x="9574" y="535"/>
                    <a:pt x="6639" y="68"/>
                  </a:cubicBezTo>
                  <a:cubicBezTo>
                    <a:pt x="6352" y="22"/>
                    <a:pt x="6068" y="0"/>
                    <a:pt x="5787" y="0"/>
                  </a:cubicBez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Box 52"/>
            <p:cNvSpPr/>
            <p:nvPr/>
          </p:nvSpPr>
          <p:spPr>
            <a:xfrm>
              <a:off x="-28440" y="3431520"/>
              <a:ext cx="18637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0070c0"/>
                  </a:solidFill>
                  <a:latin typeface="Impact"/>
                </a:rPr>
                <a:t>581,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70c0"/>
                  </a:solidFill>
                  <a:latin typeface="Arial Narrow"/>
                </a:rPr>
                <a:t>млн  гр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Box 53"/>
            <p:cNvSpPr/>
            <p:nvPr/>
          </p:nvSpPr>
          <p:spPr>
            <a:xfrm>
              <a:off x="86760" y="2931840"/>
              <a:ext cx="1583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 Black"/>
                </a:rPr>
                <a:t>Власн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 Black"/>
                </a:rPr>
                <a:t>доход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Группа 62"/>
          <p:cNvGrpSpPr/>
          <p:nvPr/>
        </p:nvGrpSpPr>
        <p:grpSpPr>
          <a:xfrm>
            <a:off x="5156280" y="2592360"/>
            <a:ext cx="1863720" cy="1492200"/>
            <a:chOff x="5156280" y="2592360"/>
            <a:chExt cx="1863720" cy="1492200"/>
          </a:xfrm>
        </p:grpSpPr>
        <p:sp>
          <p:nvSpPr>
            <p:cNvPr id="361" name="Google Shape;7255;p71"/>
            <p:cNvSpPr/>
            <p:nvPr/>
          </p:nvSpPr>
          <p:spPr>
            <a:xfrm>
              <a:off x="5184720" y="2592360"/>
              <a:ext cx="1799640" cy="1492200"/>
            </a:xfrm>
            <a:custGeom>
              <a:avLst/>
              <a:gdLst>
                <a:gd name="textAreaLeft" fmla="*/ 0 w 1799640"/>
                <a:gd name="textAreaRight" fmla="*/ 1800000 w 1799640"/>
                <a:gd name="textAreaTop" fmla="*/ 0 h 1492200"/>
                <a:gd name="textAreaBottom" fmla="*/ 1492560 h 1492200"/>
              </a:gdLst>
              <a:ahLst/>
              <a:rect l="textAreaLeft" t="textAreaTop" r="textAreaRight" b="textAreaBottom"/>
              <a:pathLst>
                <a:path w="11576" h="10777">
                  <a:moveTo>
                    <a:pt x="5787" y="0"/>
                  </a:moveTo>
                  <a:cubicBezTo>
                    <a:pt x="3185" y="0"/>
                    <a:pt x="889" y="1889"/>
                    <a:pt x="468" y="4538"/>
                  </a:cubicBezTo>
                  <a:cubicBezTo>
                    <a:pt x="1" y="7473"/>
                    <a:pt x="2002" y="10208"/>
                    <a:pt x="4938" y="10709"/>
                  </a:cubicBezTo>
                  <a:cubicBezTo>
                    <a:pt x="5221" y="10754"/>
                    <a:pt x="5503" y="10776"/>
                    <a:pt x="5781" y="10776"/>
                  </a:cubicBezTo>
                  <a:cubicBezTo>
                    <a:pt x="8358" y="10776"/>
                    <a:pt x="10654" y="8888"/>
                    <a:pt x="11075" y="6239"/>
                  </a:cubicBezTo>
                  <a:cubicBezTo>
                    <a:pt x="11576" y="3303"/>
                    <a:pt x="9574" y="535"/>
                    <a:pt x="6639" y="68"/>
                  </a:cubicBezTo>
                  <a:cubicBezTo>
                    <a:pt x="6352" y="22"/>
                    <a:pt x="6068" y="0"/>
                    <a:pt x="5787" y="0"/>
                  </a:cubicBezTo>
                  <a:close/>
                </a:path>
              </a:pathLst>
            </a:custGeom>
            <a:solidFill>
              <a:srgbClr val="5f7d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54"/>
            <p:cNvSpPr/>
            <p:nvPr/>
          </p:nvSpPr>
          <p:spPr>
            <a:xfrm>
              <a:off x="5156280" y="3222000"/>
              <a:ext cx="18637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c727"/>
                  </a:solidFill>
                  <a:latin typeface="Impact"/>
                </a:rPr>
                <a:t>61,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 Narrow"/>
                </a:rPr>
                <a:t>млн  гр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55"/>
            <p:cNvSpPr/>
            <p:nvPr/>
          </p:nvSpPr>
          <p:spPr>
            <a:xfrm>
              <a:off x="5299920" y="2721960"/>
              <a:ext cx="1583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 Black"/>
                </a:rPr>
                <a:t>Власн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 Black"/>
                </a:rPr>
                <a:t>доход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Группа 63"/>
          <p:cNvGrpSpPr/>
          <p:nvPr/>
        </p:nvGrpSpPr>
        <p:grpSpPr>
          <a:xfrm>
            <a:off x="7316640" y="2825640"/>
            <a:ext cx="1863720" cy="1164240"/>
            <a:chOff x="7316640" y="2825640"/>
            <a:chExt cx="1863720" cy="1164240"/>
          </a:xfrm>
        </p:grpSpPr>
        <p:sp>
          <p:nvSpPr>
            <p:cNvPr id="365" name="TextBox 56"/>
            <p:cNvSpPr/>
            <p:nvPr/>
          </p:nvSpPr>
          <p:spPr>
            <a:xfrm>
              <a:off x="7316640" y="3286080"/>
              <a:ext cx="186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c727"/>
                  </a:solidFill>
                  <a:latin typeface="Impact"/>
                </a:rPr>
                <a:t>не надходи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Box 57"/>
            <p:cNvSpPr/>
            <p:nvPr/>
          </p:nvSpPr>
          <p:spPr>
            <a:xfrm>
              <a:off x="7462080" y="2825640"/>
              <a:ext cx="158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 Black"/>
                </a:rPr>
                <a:t>Трансфер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Группа 60"/>
          <p:cNvGrpSpPr/>
          <p:nvPr/>
        </p:nvGrpSpPr>
        <p:grpSpPr>
          <a:xfrm>
            <a:off x="1835280" y="2779560"/>
            <a:ext cx="1873080" cy="1492560"/>
            <a:chOff x="1835280" y="2779560"/>
            <a:chExt cx="1873080" cy="1492560"/>
          </a:xfrm>
        </p:grpSpPr>
        <p:sp>
          <p:nvSpPr>
            <p:cNvPr id="368" name="Google Shape;7255;p71"/>
            <p:cNvSpPr/>
            <p:nvPr/>
          </p:nvSpPr>
          <p:spPr>
            <a:xfrm>
              <a:off x="1835280" y="2779560"/>
              <a:ext cx="1801800" cy="1492560"/>
            </a:xfrm>
            <a:custGeom>
              <a:avLst/>
              <a:gdLst/>
              <a:ahLst/>
              <a:rect l="l" t="t" r="r" b="b"/>
              <a:pathLst>
                <a:path w="11576" h="10777">
                  <a:moveTo>
                    <a:pt x="5787" y="0"/>
                  </a:moveTo>
                  <a:cubicBezTo>
                    <a:pt x="3185" y="0"/>
                    <a:pt x="889" y="1889"/>
                    <a:pt x="468" y="4538"/>
                  </a:cubicBezTo>
                  <a:cubicBezTo>
                    <a:pt x="1" y="7473"/>
                    <a:pt x="2002" y="10208"/>
                    <a:pt x="4938" y="10709"/>
                  </a:cubicBezTo>
                  <a:cubicBezTo>
                    <a:pt x="5221" y="10754"/>
                    <a:pt x="5503" y="10776"/>
                    <a:pt x="5781" y="10776"/>
                  </a:cubicBezTo>
                  <a:cubicBezTo>
                    <a:pt x="8358" y="10776"/>
                    <a:pt x="10654" y="8888"/>
                    <a:pt x="11075" y="6239"/>
                  </a:cubicBezTo>
                  <a:cubicBezTo>
                    <a:pt x="11576" y="3303"/>
                    <a:pt x="9574" y="535"/>
                    <a:pt x="6639" y="68"/>
                  </a:cubicBezTo>
                  <a:cubicBezTo>
                    <a:pt x="6352" y="22"/>
                    <a:pt x="6068" y="0"/>
                    <a:pt x="5787" y="0"/>
                  </a:cubicBez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91080" bIns="91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Box 58"/>
            <p:cNvSpPr/>
            <p:nvPr/>
          </p:nvSpPr>
          <p:spPr>
            <a:xfrm>
              <a:off x="1842840" y="3409560"/>
              <a:ext cx="18655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0070c0"/>
                  </a:solidFill>
                  <a:latin typeface="Impact"/>
                </a:rPr>
                <a:t>148,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70c0"/>
                  </a:solidFill>
                  <a:latin typeface="Arial Narrow"/>
                </a:rPr>
                <a:t>млн  гр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Box 59"/>
            <p:cNvSpPr/>
            <p:nvPr/>
          </p:nvSpPr>
          <p:spPr>
            <a:xfrm>
              <a:off x="1988640" y="3105720"/>
              <a:ext cx="15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 Black"/>
                </a:rPr>
                <a:t>Трансфер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Box 64"/>
          <p:cNvSpPr/>
          <p:nvPr/>
        </p:nvSpPr>
        <p:spPr>
          <a:xfrm>
            <a:off x="1042920" y="84312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 Black"/>
              </a:rPr>
              <a:t>Загаль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 Black"/>
              </a:rPr>
              <a:t>фон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65"/>
          <p:cNvSpPr/>
          <p:nvPr/>
        </p:nvSpPr>
        <p:spPr>
          <a:xfrm>
            <a:off x="900000" y="1276200"/>
            <a:ext cx="1863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Impact"/>
              </a:rPr>
              <a:t>729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Narrow"/>
              </a:rPr>
              <a:t>млн  г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72"/>
          <p:cNvCxnSpPr/>
          <p:nvPr/>
        </p:nvCxnSpPr>
        <p:spPr>
          <a:xfrm>
            <a:off x="2340000" y="1995480"/>
            <a:ext cx="288000" cy="721440"/>
          </a:xfrm>
          <a:prstGeom prst="straightConnector1">
            <a:avLst/>
          </a:prstGeom>
          <a:ln w="38160">
            <a:solidFill>
              <a:srgbClr val="ffc727"/>
            </a:solidFill>
            <a:miter/>
            <a:tailEnd len="med" type="arrow" w="med"/>
          </a:ln>
        </p:spPr>
      </p:cxnSp>
      <p:cxnSp>
        <p:nvCxnSpPr>
          <p:cNvPr id="374" name="Прямая со стрелкой 74"/>
          <p:cNvCxnSpPr/>
          <p:nvPr/>
        </p:nvCxnSpPr>
        <p:spPr>
          <a:xfrm flipH="1">
            <a:off x="971280" y="1923840"/>
            <a:ext cx="288000" cy="719640"/>
          </a:xfrm>
          <a:prstGeom prst="straightConnector1">
            <a:avLst/>
          </a:prstGeom>
          <a:ln w="38160">
            <a:solidFill>
              <a:srgbClr val="ffc727"/>
            </a:solidFill>
            <a:miter/>
            <a:tailEnd len="med" type="arrow" w="med"/>
          </a:ln>
        </p:spPr>
      </p:cxnSp>
      <p:cxnSp>
        <p:nvCxnSpPr>
          <p:cNvPr id="375" name="Прямая со стрелкой 75"/>
          <p:cNvCxnSpPr/>
          <p:nvPr/>
        </p:nvCxnSpPr>
        <p:spPr>
          <a:xfrm>
            <a:off x="7740720" y="1851120"/>
            <a:ext cx="288000" cy="721440"/>
          </a:xfrm>
          <a:prstGeom prst="straightConnector1">
            <a:avLst/>
          </a:prstGeom>
          <a:ln w="38160">
            <a:solidFill>
              <a:srgbClr val="dbdbdb"/>
            </a:solidFill>
            <a:miter/>
            <a:tailEnd len="med" type="arrow" w="med"/>
          </a:ln>
        </p:spPr>
      </p:cxnSp>
      <p:cxnSp>
        <p:nvCxnSpPr>
          <p:cNvPr id="376" name="Прямая со стрелкой 76"/>
          <p:cNvCxnSpPr/>
          <p:nvPr/>
        </p:nvCxnSpPr>
        <p:spPr>
          <a:xfrm flipH="1">
            <a:off x="6300360" y="1851120"/>
            <a:ext cx="288000" cy="721440"/>
          </a:xfrm>
          <a:prstGeom prst="straightConnector1">
            <a:avLst/>
          </a:prstGeom>
          <a:ln w="38160">
            <a:solidFill>
              <a:srgbClr val="dbdbdb"/>
            </a:solidFill>
            <a:miter/>
            <a:tailEnd len="med" type="arrow" w="med"/>
          </a:ln>
        </p:spPr>
      </p:cxnSp>
      <p:cxnSp>
        <p:nvCxnSpPr>
          <p:cNvPr id="377" name="Прямая со стрелкой 33"/>
          <p:cNvCxnSpPr/>
          <p:nvPr/>
        </p:nvCxnSpPr>
        <p:spPr>
          <a:xfrm flipH="1" flipV="1">
            <a:off x="2714040" y="1142640"/>
            <a:ext cx="500760" cy="2160"/>
          </a:xfrm>
          <a:prstGeom prst="straightConnector1">
            <a:avLst/>
          </a:prstGeom>
          <a:ln w="38160">
            <a:solidFill>
              <a:srgbClr val="ffc727"/>
            </a:solidFill>
            <a:miter/>
            <a:tailEnd len="med" type="arrow" w="med"/>
          </a:ln>
        </p:spPr>
      </p:cxnSp>
      <p:cxnSp>
        <p:nvCxnSpPr>
          <p:cNvPr id="378" name="Прямая со стрелкой 36"/>
          <p:cNvCxnSpPr/>
          <p:nvPr/>
        </p:nvCxnSpPr>
        <p:spPr>
          <a:xfrm>
            <a:off x="5859000" y="1213920"/>
            <a:ext cx="428040" cy="2520"/>
          </a:xfrm>
          <a:prstGeom prst="straightConnector1">
            <a:avLst/>
          </a:prstGeom>
          <a:ln w="38160">
            <a:solidFill>
              <a:srgbClr val="dbdbd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71720" y="0"/>
            <a:ext cx="7500960" cy="665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 Black"/>
              </a:rPr>
              <a:t>Виконання планових показників </a:t>
            </a:r>
            <a:br>
              <a:rPr sz="2400"/>
            </a:br>
            <a:r>
              <a:rPr b="1" lang="uk-UA" sz="2400" spc="-1" strike="noStrike">
                <a:solidFill>
                  <a:srgbClr val="0070c0"/>
                </a:solidFill>
                <a:latin typeface="Arial Black"/>
              </a:rPr>
              <a:t>загального фонду бюджету                     за І квартал 2022 року по джерел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79360" y="1143000"/>
          <a:ext cx="8640720" cy="3970440"/>
        </p:xfrm>
        <a:graphic>
          <a:graphicData uri="http://schemas.openxmlformats.org/drawingml/2006/table">
            <a:tbl>
              <a:tblPr/>
              <a:tblGrid>
                <a:gridCol w="3600360"/>
                <a:gridCol w="1440000"/>
                <a:gridCol w="1224000"/>
                <a:gridCol w="1152360"/>
                <a:gridCol w="122400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жере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263238"/>
                      </a:solidFill>
                    </a:lnT>
                    <a:lnB w="12240">
                      <a:solidFill>
                        <a:srgbClr val="263238"/>
                      </a:solidFill>
                    </a:lnB>
                    <a:solidFill>
                      <a:srgbClr val="0070c0">
                        <a:alpha val="56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263238"/>
                      </a:solidFill>
                    </a:lnT>
                    <a:lnB w="12240">
                      <a:solidFill>
                        <a:srgbClr val="263238"/>
                      </a:solidFill>
                    </a:lnB>
                    <a:solidFill>
                      <a:srgbClr val="0070c0">
                        <a:alpha val="56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263238"/>
                      </a:solidFill>
                    </a:lnT>
                    <a:lnB w="12240">
                      <a:solidFill>
                        <a:srgbClr val="263238"/>
                      </a:solidFill>
                    </a:lnB>
                    <a:solidFill>
                      <a:srgbClr val="0070c0">
                        <a:alpha val="56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/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263238"/>
                      </a:solidFill>
                    </a:lnT>
                    <a:lnB w="12240">
                      <a:solidFill>
                        <a:srgbClr val="263238"/>
                      </a:solidFill>
                    </a:lnB>
                    <a:solidFill>
                      <a:srgbClr val="0070c0">
                        <a:alpha val="56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263238"/>
                      </a:solidFill>
                    </a:lnT>
                    <a:lnB w="12240">
                      <a:solidFill>
                        <a:srgbClr val="263238"/>
                      </a:solidFill>
                    </a:lnB>
                    <a:solidFill>
                      <a:srgbClr val="0070c0">
                        <a:alpha val="56000"/>
                      </a:srgbClr>
                    </a:solidFill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даток на доходи фізичних осі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263238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404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263238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399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263238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5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263238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98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263238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Єдиний подат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09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0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4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96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даток на май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46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39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7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8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кцизний подат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4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7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12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8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Інш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0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99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bc2210"/>
                          </a:solidFill>
                          <a:latin typeface="Impact"/>
                        </a:rPr>
                        <a:t>РАЗО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26323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bc2210"/>
                          </a:solidFill>
                          <a:latin typeface="Impact"/>
                        </a:rPr>
                        <a:t>610,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26323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bc2210"/>
                          </a:solidFill>
                          <a:latin typeface="Impact"/>
                        </a:rPr>
                        <a:t>581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26323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bc2210"/>
                          </a:solidFill>
                          <a:latin typeface="Impact"/>
                        </a:rPr>
                        <a:t>-29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26323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bc2210"/>
                          </a:solidFill>
                          <a:latin typeface="Impact"/>
                        </a:rPr>
                        <a:t>95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26323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1" name="TextBox 3"/>
          <p:cNvSpPr/>
          <p:nvPr/>
        </p:nvSpPr>
        <p:spPr>
          <a:xfrm>
            <a:off x="8076960" y="785880"/>
            <a:ext cx="7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bc2210"/>
                </a:solidFill>
                <a:latin typeface="Arial Narrow"/>
              </a:rPr>
              <a:t>млн г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70436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 Black"/>
              </a:rPr>
              <a:t>Виконання показників загального фонду бюджету по джерелах в порівнянні           до І кварталу 2021 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250920" y="1214280"/>
          <a:ext cx="8713800" cy="3714840"/>
        </p:xfrm>
        <a:graphic>
          <a:graphicData uri="http://schemas.openxmlformats.org/drawingml/2006/table">
            <a:tbl>
              <a:tblPr/>
              <a:tblGrid>
                <a:gridCol w="3852720"/>
                <a:gridCol w="1397160"/>
                <a:gridCol w="1357200"/>
                <a:gridCol w="928800"/>
                <a:gridCol w="11779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жере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263238"/>
                      </a:solidFill>
                    </a:lnT>
                    <a:lnB w="12240">
                      <a:solidFill>
                        <a:srgbClr val="263238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І кв 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263238"/>
                      </a:solidFill>
                    </a:lnT>
                    <a:lnB w="12240">
                      <a:solidFill>
                        <a:srgbClr val="263238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І кв 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263238"/>
                      </a:solidFill>
                    </a:lnT>
                    <a:lnB w="12240">
                      <a:solidFill>
                        <a:srgbClr val="263238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/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263238"/>
                      </a:solidFill>
                    </a:lnT>
                    <a:lnB w="12240">
                      <a:solidFill>
                        <a:srgbClr val="263238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263238"/>
                      </a:solidFill>
                    </a:lnT>
                    <a:lnB w="12240">
                      <a:solidFill>
                        <a:srgbClr val="263238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даток на доходи фізичних осі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263238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32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263238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399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263238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78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263238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2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263238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Єдиний подат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88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0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7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19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даток на май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41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39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2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9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кцизний подат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3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7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-7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79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Інш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9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16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bc2210"/>
                          </a:solidFill>
                          <a:latin typeface="Impact"/>
                        </a:rPr>
                        <a:t>РАЗО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26323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bc2210"/>
                          </a:solidFill>
                          <a:latin typeface="Impact"/>
                        </a:rPr>
                        <a:t>494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26323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bc2210"/>
                          </a:solidFill>
                          <a:latin typeface="Impact"/>
                        </a:rPr>
                        <a:t>581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26323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bc2210"/>
                          </a:solidFill>
                          <a:latin typeface="Impact"/>
                        </a:rPr>
                        <a:t>87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26323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bc2210"/>
                          </a:solidFill>
                          <a:latin typeface="Impact"/>
                        </a:rPr>
                        <a:t>117,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26323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4" name="TextBox 3"/>
          <p:cNvSpPr/>
          <p:nvPr/>
        </p:nvSpPr>
        <p:spPr>
          <a:xfrm>
            <a:off x="8149320" y="785880"/>
            <a:ext cx="7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bc2210"/>
                </a:solidFill>
                <a:latin typeface="Arial Narrow"/>
              </a:rPr>
              <a:t>млн г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640" y="142560"/>
            <a:ext cx="7956720" cy="57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 Narrow"/>
              </a:rPr>
              <a:t>Виконання показників спеціального фонду бюджету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0" y="857160"/>
          <a:ext cx="9144000" cy="4189680"/>
        </p:xfrm>
        <a:graphic>
          <a:graphicData uri="http://schemas.openxmlformats.org/drawingml/2006/table">
            <a:tbl>
              <a:tblPr/>
              <a:tblGrid>
                <a:gridCol w="2544840"/>
                <a:gridCol w="1973160"/>
                <a:gridCol w="1967040"/>
                <a:gridCol w="1650960"/>
                <a:gridCol w="1008000"/>
              </a:tblGrid>
              <a:tr h="94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63238"/>
                          </a:solidFill>
                          <a:latin typeface="Arial Narrow"/>
                        </a:rPr>
                        <a:t>Бюджет розвит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c727"/>
                      </a:solidFill>
                    </a:lnT>
                    <a:lnB>
                      <a:noFill/>
                    </a:lnB>
                    <a:solidFill>
                      <a:srgbClr val="ffdd7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263238"/>
                          </a:solidFill>
                          <a:latin typeface="Impact"/>
                        </a:rPr>
                        <a:t>14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c727"/>
                      </a:solidFill>
                    </a:lnT>
                    <a:lnB>
                      <a:noFill/>
                    </a:lnB>
                    <a:solidFill>
                      <a:srgbClr val="ffdd7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263238"/>
                          </a:solidFill>
                          <a:latin typeface="Impact"/>
                        </a:rPr>
                        <a:t>16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c727"/>
                      </a:solidFill>
                    </a:lnT>
                    <a:lnB>
                      <a:noFill/>
                    </a:lnB>
                    <a:solidFill>
                      <a:srgbClr val="ffdd7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263238"/>
                          </a:solidFill>
                          <a:latin typeface="Impact"/>
                        </a:rPr>
                        <a:t>2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c727"/>
                      </a:solidFill>
                    </a:lnT>
                    <a:lnB>
                      <a:noFill/>
                    </a:lnB>
                    <a:solidFill>
                      <a:srgbClr val="ffdd7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263238"/>
                          </a:solidFill>
                          <a:latin typeface="Impact"/>
                        </a:rPr>
                        <a:t>114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c727"/>
                      </a:solidFill>
                    </a:lnT>
                    <a:lnB>
                      <a:noFill/>
                    </a:lnB>
                    <a:solidFill>
                      <a:srgbClr val="ffdd7d"/>
                    </a:solidFill>
                  </a:tcPr>
                </a:tc>
              </a:tr>
              <a:tr h="94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63238"/>
                          </a:solidFill>
                          <a:latin typeface="Arial Narrow"/>
                        </a:rPr>
                        <a:t>Продаж май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263238"/>
                          </a:solidFill>
                          <a:latin typeface="Impact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263238"/>
                          </a:solidFill>
                          <a:latin typeface="Impact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263238"/>
                          </a:solidFill>
                          <a:latin typeface="Impact"/>
                        </a:rPr>
                        <a:t>2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263238"/>
                          </a:solidFill>
                          <a:latin typeface="Impact"/>
                        </a:rPr>
                        <a:t>157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ebeb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63238"/>
                          </a:solidFill>
                          <a:latin typeface="Arial Narrow"/>
                        </a:rPr>
                        <a:t>Продаж земл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263238"/>
                          </a:solidFill>
                          <a:latin typeface="Impact"/>
                        </a:rPr>
                        <a:t>9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263238"/>
                          </a:solidFill>
                          <a:latin typeface="Impact"/>
                        </a:rPr>
                        <a:t>8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263238"/>
                          </a:solidFill>
                          <a:latin typeface="Impact"/>
                        </a:rPr>
                        <a:t>-0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ebe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263238"/>
                          </a:solidFill>
                          <a:latin typeface="Impact"/>
                        </a:rPr>
                        <a:t>9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ebeb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63238"/>
                          </a:solidFill>
                          <a:latin typeface="Arial Narrow"/>
                        </a:rPr>
                        <a:t>Цільовий фон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9a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263238"/>
                          </a:solidFill>
                          <a:latin typeface="Impact"/>
                        </a:rPr>
                        <a:t>0,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9a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63238"/>
                          </a:solidFill>
                          <a:latin typeface="Impact"/>
                        </a:rPr>
                        <a:t>0,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9a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263238"/>
                          </a:solidFill>
                          <a:latin typeface="Impact"/>
                        </a:rPr>
                        <a:t>-0,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9a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263238"/>
                          </a:solidFill>
                          <a:latin typeface="Impact"/>
                        </a:rPr>
                        <a:t>56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9a9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63238"/>
                          </a:solidFill>
                          <a:latin typeface="Arial Narrow"/>
                        </a:rPr>
                        <a:t>Фонд приро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9a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263238"/>
                          </a:solidFill>
                          <a:latin typeface="Impact"/>
                        </a:rPr>
                        <a:t>0,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9a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63238"/>
                          </a:solidFill>
                          <a:latin typeface="Impact"/>
                        </a:rPr>
                        <a:t>0,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9a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263238"/>
                          </a:solidFill>
                          <a:latin typeface="Impact"/>
                        </a:rPr>
                        <a:t>-0,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9a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263238"/>
                          </a:solidFill>
                          <a:latin typeface="Impact"/>
                        </a:rPr>
                        <a:t>85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9a9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63238"/>
                          </a:solidFill>
                          <a:latin typeface="Arial Narrow"/>
                        </a:rPr>
                        <a:t>Інші надходже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9a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263238"/>
                          </a:solidFill>
                          <a:latin typeface="Impact"/>
                        </a:rPr>
                        <a:t>0,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9a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9a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263238"/>
                          </a:solidFill>
                          <a:latin typeface="Impact"/>
                        </a:rPr>
                        <a:t>-0,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9a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9a9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63238"/>
                          </a:solidFill>
                          <a:latin typeface="Arial Narrow"/>
                        </a:rPr>
                        <a:t>Власні надходже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9a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9a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63238"/>
                          </a:solidFill>
                          <a:latin typeface="Impact"/>
                        </a:rPr>
                        <a:t>44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9a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263238"/>
                          </a:solidFill>
                          <a:latin typeface="Impact"/>
                        </a:rPr>
                        <a:t>44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9a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9a9"/>
                    </a:solidFill>
                  </a:tcPr>
                </a:tc>
              </a:tr>
              <a:tr h="94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bc2210"/>
                          </a:solidFill>
                          <a:latin typeface="Impact"/>
                        </a:rPr>
                        <a:t>Всь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c72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bc2210"/>
                          </a:solidFill>
                          <a:latin typeface="Impact"/>
                        </a:rPr>
                        <a:t>1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c72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bc2210"/>
                          </a:solidFill>
                          <a:latin typeface="Impact"/>
                        </a:rPr>
                        <a:t>6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c72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bc2210"/>
                          </a:solidFill>
                          <a:latin typeface="Impact"/>
                        </a:rPr>
                        <a:t>46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c72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bc2210"/>
                          </a:solidFill>
                          <a:latin typeface="Impact"/>
                        </a:rPr>
                        <a:t>40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c727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0" y="500040"/>
          <a:ext cx="8964720" cy="428760"/>
        </p:xfrm>
        <a:graphic>
          <a:graphicData uri="http://schemas.openxmlformats.org/drawingml/2006/table">
            <a:tbl>
              <a:tblPr/>
              <a:tblGrid>
                <a:gridCol w="2481120"/>
                <a:gridCol w="2222640"/>
                <a:gridCol w="2000160"/>
                <a:gridCol w="1222560"/>
                <a:gridCol w="103824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Джере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263238"/>
                      </a:solidFill>
                    </a:lnT>
                    <a:lnB w="12240">
                      <a:solidFill>
                        <a:srgbClr val="263238"/>
                      </a:solidFill>
                    </a:lnB>
                    <a:solidFill>
                      <a:srgbClr val="0070c0">
                        <a:alpha val="5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план  І кв 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263238"/>
                      </a:solidFill>
                    </a:lnT>
                    <a:lnB w="12240">
                      <a:solidFill>
                        <a:srgbClr val="263238"/>
                      </a:solidFill>
                    </a:lnB>
                    <a:solidFill>
                      <a:srgbClr val="0070c0">
                        <a:alpha val="5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факт  І кв 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263238"/>
                      </a:solidFill>
                    </a:lnT>
                    <a:lnB w="12240">
                      <a:solidFill>
                        <a:srgbClr val="263238"/>
                      </a:solidFill>
                    </a:lnB>
                    <a:solidFill>
                      <a:srgbClr val="0070c0">
                        <a:alpha val="5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+ / 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263238"/>
                      </a:solidFill>
                    </a:lnT>
                    <a:lnB w="12240">
                      <a:solidFill>
                        <a:srgbClr val="263238"/>
                      </a:solidFill>
                    </a:lnB>
                    <a:solidFill>
                      <a:srgbClr val="0070c0">
                        <a:alpha val="5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263238"/>
                      </a:solidFill>
                    </a:lnT>
                    <a:lnB w="12240">
                      <a:solidFill>
                        <a:srgbClr val="263238"/>
                      </a:solidFill>
                    </a:lnB>
                    <a:solidFill>
                      <a:srgbClr val="0070c0">
                        <a:alpha val="51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88" name="TextBox 6"/>
          <p:cNvSpPr/>
          <p:nvPr/>
        </p:nvSpPr>
        <p:spPr>
          <a:xfrm>
            <a:off x="8006400" y="214200"/>
            <a:ext cx="7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bc2210"/>
                </a:solidFill>
                <a:latin typeface="Arial Narrow"/>
              </a:rPr>
              <a:t>млн гр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Овал 2"/>
          <p:cNvSpPr/>
          <p:nvPr/>
        </p:nvSpPr>
        <p:spPr>
          <a:xfrm rot="10800000">
            <a:off x="7154640" y="842400"/>
            <a:ext cx="1439640" cy="1369800"/>
          </a:xfrm>
          <a:prstGeom prst="ellipse">
            <a:avLst/>
          </a:prstGeom>
          <a:gradFill rotWithShape="0">
            <a:gsLst>
              <a:gs pos="0">
                <a:srgbClr val="ffd707"/>
              </a:gs>
              <a:gs pos="100000">
                <a:srgbClr val="fff76b"/>
              </a:gs>
            </a:gsLst>
            <a:lin ang="5400000"/>
          </a:gradFill>
          <a:ln w="9360">
            <a:solidFill>
              <a:srgbClr val="ffc52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Овал 3"/>
          <p:cNvSpPr/>
          <p:nvPr/>
        </p:nvSpPr>
        <p:spPr>
          <a:xfrm rot="10800000">
            <a:off x="5229000" y="966600"/>
            <a:ext cx="1439640" cy="1296720"/>
          </a:xfrm>
          <a:prstGeom prst="ellipse">
            <a:avLst/>
          </a:prstGeom>
          <a:gradFill rotWithShape="0">
            <a:gsLst>
              <a:gs pos="0">
                <a:srgbClr val="ffd707"/>
              </a:gs>
              <a:gs pos="100000">
                <a:srgbClr val="fff76b"/>
              </a:gs>
            </a:gsLst>
            <a:lin ang="5400000"/>
          </a:gradFill>
          <a:ln w="9360">
            <a:solidFill>
              <a:srgbClr val="ffc52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9"/>
          <p:cNvSpPr/>
          <p:nvPr/>
        </p:nvSpPr>
        <p:spPr>
          <a:xfrm>
            <a:off x="7326360" y="10857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Impact"/>
              </a:rPr>
              <a:t>3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1b2327"/>
                </a:solidFill>
                <a:latin typeface="Arial"/>
              </a:rPr>
              <a:t>міська програ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30"/>
          <p:cNvSpPr/>
          <p:nvPr/>
        </p:nvSpPr>
        <p:spPr>
          <a:xfrm>
            <a:off x="5321160" y="114768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Impact"/>
              </a:rPr>
              <a:t>1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58312b"/>
                </a:solidFill>
                <a:latin typeface="Arial"/>
              </a:rPr>
              <a:t>бюджетних прогр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Google Shape;90;p15"/>
          <p:cNvSpPr/>
          <p:nvPr/>
        </p:nvSpPr>
        <p:spPr>
          <a:xfrm>
            <a:off x="1042920" y="123840"/>
            <a:ext cx="309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 Black"/>
              </a:rPr>
              <a:t>ВИДА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Овал 24"/>
          <p:cNvSpPr/>
          <p:nvPr/>
        </p:nvSpPr>
        <p:spPr>
          <a:xfrm rot="10800000">
            <a:off x="6484680" y="2355480"/>
            <a:ext cx="934920" cy="865080"/>
          </a:xfrm>
          <a:prstGeom prst="ellipse">
            <a:avLst/>
          </a:prstGeom>
          <a:solidFill>
            <a:srgbClr val="ffc727"/>
          </a:solidFill>
          <a:ln w="9360">
            <a:solidFill>
              <a:srgbClr val="ffc52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5"/>
          <p:cNvSpPr/>
          <p:nvPr/>
        </p:nvSpPr>
        <p:spPr>
          <a:xfrm>
            <a:off x="6448320" y="2532240"/>
            <a:ext cx="1008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70c0"/>
                </a:solidFill>
                <a:latin typeface="Impact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1b2327"/>
                </a:solidFill>
                <a:latin typeface="Arial"/>
              </a:rPr>
              <a:t>ГР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Прямая со стрелкой 28"/>
          <p:cNvCxnSpPr/>
          <p:nvPr/>
        </p:nvCxnSpPr>
        <p:spPr>
          <a:xfrm flipH="1">
            <a:off x="7222320" y="2036520"/>
            <a:ext cx="143640" cy="361080"/>
          </a:xfrm>
          <a:prstGeom prst="straightConnector1">
            <a:avLst/>
          </a:prstGeom>
          <a:ln w="38160">
            <a:solidFill>
              <a:srgbClr val="ffc727"/>
            </a:solidFill>
            <a:miter/>
            <a:tailEnd len="med" type="arrow" w="med"/>
          </a:ln>
        </p:spPr>
      </p:cxnSp>
      <p:cxnSp>
        <p:nvCxnSpPr>
          <p:cNvPr id="397" name="Прямая со стрелкой 33"/>
          <p:cNvCxnSpPr/>
          <p:nvPr/>
        </p:nvCxnSpPr>
        <p:spPr>
          <a:xfrm>
            <a:off x="6470280" y="2099880"/>
            <a:ext cx="143640" cy="361080"/>
          </a:xfrm>
          <a:prstGeom prst="straightConnector1">
            <a:avLst/>
          </a:prstGeom>
          <a:ln w="38160">
            <a:solidFill>
              <a:srgbClr val="ffc727"/>
            </a:solidFill>
            <a:miter/>
            <a:tailEnd len="med" type="arrow" w="med"/>
          </a:ln>
        </p:spPr>
      </p:cxnSp>
      <p:grpSp>
        <p:nvGrpSpPr>
          <p:cNvPr id="398" name="Группа 19"/>
          <p:cNvGrpSpPr/>
          <p:nvPr/>
        </p:nvGrpSpPr>
        <p:grpSpPr>
          <a:xfrm>
            <a:off x="142920" y="671400"/>
            <a:ext cx="3805200" cy="3954600"/>
            <a:chOff x="142920" y="671400"/>
            <a:chExt cx="3805200" cy="3954600"/>
          </a:xfrm>
        </p:grpSpPr>
        <p:sp>
          <p:nvSpPr>
            <p:cNvPr id="399" name="Google Shape;181;p23"/>
            <p:cNvSpPr/>
            <p:nvPr/>
          </p:nvSpPr>
          <p:spPr>
            <a:xfrm flipH="1" flipV="1" rot="15001800">
              <a:off x="2833200" y="1897200"/>
              <a:ext cx="273600" cy="273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e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0640" bIns="80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0" name="Picture 2" descr="C:\Users\User\Desktop\89083557_2705746462867567_1301258778678657024_n.png"/>
            <p:cNvPicPr/>
            <p:nvPr/>
          </p:nvPicPr>
          <p:blipFill>
            <a:blip r:embed="rId1"/>
            <a:stretch/>
          </p:blipFill>
          <p:spPr>
            <a:xfrm>
              <a:off x="142920" y="2354040"/>
              <a:ext cx="2306160" cy="22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2" descr="C:\Users\User\Desktop\89083557_2705746462867567_1301258778678657024_n.png"/>
            <p:cNvPicPr/>
            <p:nvPr/>
          </p:nvPicPr>
          <p:blipFill>
            <a:blip r:embed="rId2"/>
            <a:stretch/>
          </p:blipFill>
          <p:spPr>
            <a:xfrm>
              <a:off x="1569240" y="1570320"/>
              <a:ext cx="2378880" cy="23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2" descr="C:\Users\User\Desktop\89083557_2705746462867567_1301258778678657024_n.png"/>
            <p:cNvPicPr/>
            <p:nvPr/>
          </p:nvPicPr>
          <p:blipFill>
            <a:blip r:embed="rId3"/>
            <a:stretch/>
          </p:blipFill>
          <p:spPr>
            <a:xfrm>
              <a:off x="197640" y="671400"/>
              <a:ext cx="209376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TextBox 17"/>
            <p:cNvSpPr/>
            <p:nvPr/>
          </p:nvSpPr>
          <p:spPr>
            <a:xfrm flipH="1">
              <a:off x="2000520" y="2040480"/>
              <a:ext cx="177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70c0"/>
                  </a:solidFill>
                  <a:latin typeface="Impact"/>
                </a:rPr>
                <a:t>559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70c0"/>
                  </a:solidFill>
                  <a:latin typeface="Impact"/>
                </a:rPr>
                <a:t> </a:t>
              </a:r>
              <a:r>
                <a:rPr b="1" lang="uk-UA" sz="1800" spc="-1" strike="noStrike">
                  <a:solidFill>
                    <a:srgbClr val="1b2327"/>
                  </a:solidFill>
                  <a:latin typeface="Arial"/>
                </a:rPr>
                <a:t>млн. гр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70c0"/>
                  </a:solidFill>
                  <a:latin typeface="Arial"/>
                </a:rPr>
                <a:t>ЗАГАЛЬ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70c0"/>
                  </a:solidFill>
                  <a:latin typeface="Arial"/>
                </a:rPr>
                <a:t>фон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Box 18"/>
            <p:cNvSpPr/>
            <p:nvPr/>
          </p:nvSpPr>
          <p:spPr>
            <a:xfrm flipH="1">
              <a:off x="435960" y="2785680"/>
              <a:ext cx="1991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70c0"/>
                  </a:solidFill>
                  <a:latin typeface="Impact"/>
                </a:rPr>
                <a:t>71,9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263238"/>
                  </a:solidFill>
                  <a:latin typeface="Arial"/>
                </a:rPr>
                <a:t>млн. гр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70c0"/>
                  </a:solidFill>
                  <a:latin typeface="Arial"/>
                </a:rPr>
                <a:t>СПЕЦІАЛЬ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70c0"/>
                  </a:solidFill>
                  <a:latin typeface="Arial"/>
                </a:rPr>
                <a:t>фон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Box 23"/>
            <p:cNvSpPr/>
            <p:nvPr/>
          </p:nvSpPr>
          <p:spPr>
            <a:xfrm flipH="1">
              <a:off x="564120" y="1005840"/>
              <a:ext cx="1578960" cy="10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70c0"/>
                  </a:solidFill>
                  <a:latin typeface="Impact"/>
                </a:rPr>
                <a:t>630,9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b2327"/>
                  </a:solidFill>
                  <a:latin typeface="Arial"/>
                </a:rPr>
                <a:t>млн. гр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70c0"/>
                  </a:solidFill>
                  <a:latin typeface="Arial"/>
                </a:rPr>
                <a:t>РАЗ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6" name="Прямая со стрелкой 34"/>
            <p:cNvCxnSpPr/>
            <p:nvPr/>
          </p:nvCxnSpPr>
          <p:spPr>
            <a:xfrm>
              <a:off x="1998000" y="1865880"/>
              <a:ext cx="144360" cy="359640"/>
            </a:xfrm>
            <a:prstGeom prst="straightConnector1">
              <a:avLst/>
            </a:prstGeom>
            <a:ln w="38160">
              <a:solidFill>
                <a:srgbClr val="dbdbdb"/>
              </a:solidFill>
              <a:miter/>
              <a:tailEnd len="med" type="arrow" w="med"/>
            </a:ln>
          </p:spPr>
        </p:cxnSp>
        <p:cxnSp>
          <p:nvCxnSpPr>
            <p:cNvPr id="407" name="Прямая со стрелкой 35"/>
            <p:cNvCxnSpPr/>
            <p:nvPr/>
          </p:nvCxnSpPr>
          <p:spPr>
            <a:xfrm flipH="1">
              <a:off x="1346040" y="2296440"/>
              <a:ext cx="1080" cy="430920"/>
            </a:xfrm>
            <a:prstGeom prst="straightConnector1">
              <a:avLst/>
            </a:prstGeom>
            <a:ln w="38160">
              <a:solidFill>
                <a:srgbClr val="dbdbdb"/>
              </a:solidFill>
              <a:miter/>
              <a:tailEnd len="med" type="arrow" w="med"/>
            </a:ln>
          </p:spPr>
        </p:cxnSp>
      </p:grpSp>
      <p:sp>
        <p:nvSpPr>
          <p:cNvPr id="408" name="TextBox 27"/>
          <p:cNvSpPr/>
          <p:nvPr/>
        </p:nvSpPr>
        <p:spPr>
          <a:xfrm>
            <a:off x="5477040" y="300348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22"/>
          <p:cNvSpPr/>
          <p:nvPr/>
        </p:nvSpPr>
        <p:spPr>
          <a:xfrm>
            <a:off x="3000240" y="36432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Забезпечено своєчасне та в повному обсязі фінансування захищених видатків бюдж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Пользователь Windows</cp:lastModifiedBy>
  <cp:lastPrinted>2022-05-12T10:02:15Z</cp:lastPrinted>
  <dcterms:modified xsi:type="dcterms:W3CDTF">2022-05-13T06:47:30Z</dcterms:modified>
  <cp:revision>166</cp:revision>
  <dc:subject/>
  <dc:title>Social Inclusion</dc:title>
</cp:coreProperties>
</file>