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BE1A-1D6D-4131-B7C0-5A776030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3370-A618-405A-801A-01C9884A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DBA3-13F6-4FFD-AEAC-AC252A9B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4DD6-8CBC-4FF1-8347-B266FF2E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A2A6-A21A-438D-B18C-EFC8E830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3F59-5AF9-4D44-9B17-B3B26074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AE4D-7EF9-43A4-886B-67C13B54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6541-C41A-423C-A59D-EC24920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77C6-A6F9-454B-AC57-0B5013FC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2806-2F47-4376-8F25-7895336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F92E-65D1-462F-B561-C4B0F104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1C70-BE5E-47A5-99D4-C617A173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076D-C0FA-4774-9F8B-63721A5C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2016-A709-4A85-9081-87A53D0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349B-0FDA-4F41-8D1F-FA91748C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1433-922F-4113-9D03-CBEB180D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5BB3-70BC-494D-8376-C33FB075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3CF7-9BD4-4D44-B23A-77BB15C3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05CA-6C37-46AE-8BA0-2826F12E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E526-D249-487B-B410-61F6769B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00F6-4861-41B2-97A1-DEB04054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7B90-40D9-4753-8724-45583F35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1918-2C07-49E5-85E9-E00D75B9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3DBD-1CAA-4761-BE37-596F97EA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2E39-C977-433E-BECC-E7710A072884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C34B-985D-4AF9-9CDF-6D6CAFA4E201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163000" y="0"/>
            <a:ext cx="981000" cy="1380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-181080" y="1517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332000" y="2473200"/>
            <a:ext cx="86295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uk-UA" sz="2500" spc="-1" strike="noStrike">
                <a:solidFill>
                  <a:srgbClr val="ffffff"/>
                </a:solidFill>
                <a:latin typeface="Arial"/>
              </a:rPr>
              <a:t>Про роботу Центру наданн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ffffff"/>
                </a:solidFill>
                <a:latin typeface="Arial"/>
              </a:rPr>
              <a:t>адміністративних послуг міської рад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ffffff"/>
                </a:solidFill>
                <a:latin typeface="Arial"/>
              </a:rPr>
              <a:t>за 2022 рі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372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3300" spc="-1" strike="noStrike">
                <a:solidFill>
                  <a:srgbClr val="000000"/>
                </a:solidFill>
                <a:latin typeface="Arial"/>
              </a:rPr>
              <a:t>Адміністративні послуги, </a:t>
            </a:r>
            <a:br>
              <a:rPr sz="3300"/>
            </a:br>
            <a:r>
              <a:rPr b="1" lang="uk-UA" sz="3300" spc="-1" strike="noStrike">
                <a:solidFill>
                  <a:srgbClr val="000000"/>
                </a:solidFill>
                <a:latin typeface="Arial"/>
              </a:rPr>
              <a:t>що надаються через </a:t>
            </a:r>
            <a:br>
              <a:rPr sz="3300"/>
            </a:br>
            <a:r>
              <a:rPr b="1" lang="uk-UA" sz="3300" spc="-1" strike="noStrike">
                <a:solidFill>
                  <a:srgbClr val="000000"/>
                </a:solidFill>
                <a:latin typeface="Arial"/>
              </a:rPr>
              <a:t>ЦНАП міської ради, в т.ч. через «Прозорий офіс»:</a:t>
            </a:r>
            <a:br>
              <a:rPr sz="3300"/>
            </a:br>
            <a:br>
              <a:rPr sz="1100"/>
            </a:br>
            <a:r>
              <a:rPr b="1" lang="uk-UA" sz="3300" spc="-1" strike="noStrike">
                <a:solidFill>
                  <a:srgbClr val="666699"/>
                </a:solidFill>
                <a:latin typeface="Arial"/>
              </a:rPr>
              <a:t> - міської ради та її виконавчих органів </a:t>
            </a:r>
            <a:br>
              <a:rPr sz="3300"/>
            </a:br>
            <a:r>
              <a:rPr b="1" lang="uk-UA" sz="3300" spc="-1" strike="noStrike">
                <a:solidFill>
                  <a:srgbClr val="666699"/>
                </a:solidFill>
                <a:latin typeface="Arial"/>
              </a:rPr>
              <a:t>- облдержадміністрації </a:t>
            </a:r>
            <a:br>
              <a:rPr sz="3300"/>
            </a:br>
            <a:r>
              <a:rPr b="1" lang="uk-UA" sz="3300" spc="-1" strike="noStrike">
                <a:solidFill>
                  <a:srgbClr val="666699"/>
                </a:solidFill>
                <a:latin typeface="Arial"/>
              </a:rPr>
              <a:t>- центральних органів виконавчої влади (тер. підрозділів) </a:t>
            </a:r>
            <a:br>
              <a:rPr sz="3300"/>
            </a:br>
            <a:r>
              <a:rPr b="1" lang="uk-UA" sz="3300" spc="-1" strike="noStrike">
                <a:solidFill>
                  <a:srgbClr val="000000"/>
                </a:solidFill>
                <a:latin typeface="Arial"/>
              </a:rPr>
              <a:t>Всього: 452 послуги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8163000" y="0"/>
            <a:ext cx="98100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рівняльний аналіз кількості зареєстрованих звернен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дміністраторами за 2020-2022 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Chart 1"/>
          <p:cNvGraphicFramePr/>
          <p:nvPr/>
        </p:nvGraphicFramePr>
        <p:xfrm>
          <a:off x="1171440" y="1986120"/>
          <a:ext cx="6801120" cy="44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986120"/>
                    <a:ext cx="680112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90440"/>
            <a:ext cx="84963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Структура звернень до ЦНАП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"/>
          <p:cNvPicPr/>
          <p:nvPr/>
        </p:nvPicPr>
        <p:blipFill>
          <a:blip r:embed="rId1"/>
          <a:srcRect l="37496" t="33356" r="36820" b="28165"/>
          <a:stretch/>
        </p:blipFill>
        <p:spPr>
          <a:xfrm>
            <a:off x="1692360" y="1736640"/>
            <a:ext cx="52750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іністраторами ЦНАП у 2022 році успішно пройдено іспити та отримано доступ до Державного земельного кадастру, що дозволяє формувати витяги з Державного земельного кадастру адміністраторами центру та одразу видавати замовник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" descr=""/>
          <p:cNvPicPr/>
          <p:nvPr/>
        </p:nvPicPr>
        <p:blipFill>
          <a:blip r:embed="rId1"/>
          <a:stretch/>
        </p:blipFill>
        <p:spPr>
          <a:xfrm>
            <a:off x="604800" y="2365200"/>
            <a:ext cx="80964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іністратори ЦНАП забезпечують прийняття інформаційних повідомлень через Портал ДІЯ від громадян України, які є власниками пошкодженого або знищеного нерухомого майна внаслідок бойових дій, терористичних актів, диверсій, спричинених військовою агресією Російської Федерації, з моменту введення воєнного стану Указом Президента України від 24 лютого 2022 р.               № 64 "Про введення воєнного стану в Україні«</a:t>
            </a:r>
            <a:br>
              <a:rPr sz="1800"/>
            </a:br>
            <a:br>
              <a:rPr sz="18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022 році адміністраторами було прийнято 143 повідом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У випадку пошкодження майна під час війни подавайте заявки в застосунку Дія  | Краматорська міська рада"/>
          <p:cNvPicPr/>
          <p:nvPr/>
        </p:nvPicPr>
        <p:blipFill>
          <a:blip r:embed="rId1"/>
          <a:stretch/>
        </p:blipFill>
        <p:spPr>
          <a:xfrm>
            <a:off x="1655640" y="2997360"/>
            <a:ext cx="5832720" cy="32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1:53:22Z</dcterms:created>
  <dc:creator>Олег</dc:creator>
  <dc:description/>
  <dc:language>en-US</dc:language>
  <cp:lastModifiedBy>Suzanna</cp:lastModifiedBy>
  <dcterms:modified xsi:type="dcterms:W3CDTF">2023-01-12T09:13:17Z</dcterms:modified>
  <cp:revision>136</cp:revision>
  <dc:subject/>
  <dc:title>Слайд 1</dc:title>
</cp:coreProperties>
</file>