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39B-1ADF-44F9-A1DF-8D4F3892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153-1301-450C-A725-36C8ED5B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509A-882B-4720-B965-FAF505E1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DC4-24E2-4467-A311-3CB35157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D68-154E-4642-B108-B88CB404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41A-08B4-4E03-8C8C-F9578117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B33D-7439-49B3-9F18-F82552C1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0C5-A705-4F55-BEB7-D5A3FE8B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F3F-1439-4EC5-8911-0230AC48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E492-C2FD-4A06-9869-0B603165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FAA-224B-41DB-A62B-7FAD635C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AD1-24A8-46A7-A994-B069579B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C399-8060-42DD-9DEC-62EB1132F8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omic Sans MS"/>
              </a:rPr>
              <a:t>Звіт про робо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omic Sans MS"/>
              </a:rPr>
              <a:t>Муніципальної інспекці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omic Sans MS"/>
              </a:rPr>
              <a:t>За 2021 рі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897840" y="476280"/>
            <a:ext cx="737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omic Sans MS"/>
              </a:rPr>
              <a:t>Житомирська міська ра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11280" y="404280"/>
            <a:ext cx="792144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іципальна інспекція діє відповідно до Положення, яке затверджене рішенням Житомирської міської ради від 25.03.2021 № 9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ю діяльності інспекції є здійснення контролю за станом благоустрою у м. Житомирі, дотриманням природоохоронного законодавства та виконання робіт, пов’язаних з порушенням благоустрою, дотримання законодавства у сфері зовнішньої реклами, торгівлі, а також контроль за дотримання Правил дорожнього руху в частині зупинки та стоянки транспортних засоб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1556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татна структура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уніципальної інспекції Житомирської міської ради на 2021 рі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50560" y="1700280"/>
            <a:ext cx="8713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гальна кількість працівників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8, з ни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началь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заступни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провідних спеціаліс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спеціалістів 1-ї категор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спеціалістів 1-ї категорії – інспекторів з паркув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старший інспектор з діло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напрямках діяльності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– контроль у сфері благоустрою на дільниц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контроль у сфері розміщення тимчасових споруд, об'єктів зовнішньої рекл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контроль у сфері паркування транспортних засоб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2"/>
          <p:cNvSpPr/>
          <p:nvPr/>
        </p:nvSpPr>
        <p:spPr>
          <a:xfrm>
            <a:off x="34920" y="115920"/>
            <a:ext cx="910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рта розподілу території між спеціаліс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028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-324000" y="1343160"/>
          <a:ext cx="925992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1343160"/>
                    <a:ext cx="92599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Rectangle 3"/>
          <p:cNvSpPr/>
          <p:nvPr/>
        </p:nvSpPr>
        <p:spPr>
          <a:xfrm>
            <a:off x="395280" y="620640"/>
            <a:ext cx="8373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Протоколи муніципальної інспекції за видами правопорушень за 2021 р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Всього - 12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57240" y="1001880"/>
          <a:ext cx="9283680" cy="58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001880"/>
                    <a:ext cx="92836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3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Приписи муніципальної інспекції за видами правопорушень за 2021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Всього - 21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633240" y="1846440"/>
          <a:ext cx="8379000" cy="487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1846440"/>
                    <a:ext cx="83790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3"/>
          <p:cNvSpPr/>
          <p:nvPr/>
        </p:nvSpPr>
        <p:spPr>
          <a:xfrm>
            <a:off x="457200" y="274680"/>
            <a:ext cx="8362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Кількість розглянутих протоколів 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адміністративною комісією при виконкомі Житомирської міської ради за 2021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Всього – 125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1001880" y="1700280"/>
          <a:ext cx="9407520" cy="489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1700280"/>
                    <a:ext cx="9407520" cy="48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3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Сума накладених штрафних санкцій 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адміністративною комісією при виконкомі Житомирської міської ради за 2021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Всього – 772 327 гр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766800" y="549360"/>
            <a:ext cx="761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віт по роботі інспекторів з парку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а період з 09.06.2021 року по 31.12.2021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63520" y="2060640"/>
          <a:ext cx="7275600" cy="3287520"/>
        </p:xfrm>
        <a:graphic>
          <a:graphicData uri="http://schemas.openxmlformats.org/drawingml/2006/table">
            <a:tbl>
              <a:tblPr/>
              <a:tblGrid>
                <a:gridCol w="630360"/>
                <a:gridCol w="3695760"/>
                <a:gridCol w="1546200"/>
                <a:gridCol w="1403280"/>
              </a:tblGrid>
              <a:tr h="706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а, гр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9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ього фіксаці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959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9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лати в т. ч.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3548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3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дентифікова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1875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9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ідентифікова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673,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9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соток оплачених постанов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9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 сформованих пост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8:03:18Z</dcterms:created>
  <dc:creator>Гайова</dc:creator>
  <dc:description/>
  <dc:language>en-US</dc:language>
  <cp:lastModifiedBy>adm</cp:lastModifiedBy>
  <cp:lastPrinted>2018-02-09T07:23:27Z</cp:lastPrinted>
  <dcterms:modified xsi:type="dcterms:W3CDTF">2022-01-24T11:49:19Z</dcterms:modified>
  <cp:revision>241</cp:revision>
  <dc:subject/>
  <dc:title>Слайд 1</dc:title>
</cp:coreProperties>
</file>