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102-DC47-4584-904B-C2148D04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E86-7375-4405-B792-6AF3D5C6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062-F1C3-4CE7-9D4C-B7D45EF1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F9A-2043-4785-9841-1231C5CE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C470-E5F9-49F4-BB4E-14E3E9B1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A32A-7B2C-475A-866B-D03AD8CF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D5E3-6A31-412E-B412-854E335E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612C-F71A-43F8-BCCC-20B4EE83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CA6E-5814-4408-B792-83114E41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012A-701B-4355-839D-45B68683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F5A1-0120-44F4-9A57-A5300F9E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3D1-6E14-4945-85D2-4E03C480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E7C6-CC6D-4853-9C18-993A1A05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10AF-D0D2-4C12-AAF7-EFEF206A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C57D-49FE-4720-9F5F-AAB5124A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74C8-EB0C-4438-8DC8-E95EA482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7FCA-E7C1-48B6-A9CE-99823AF1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55CC-9848-4EF9-92F0-2140533A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F3D6-9B36-46DB-A254-4F125CF3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E23D-1730-41F1-9936-ADA580CC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40482-2BDE-4118-B033-B9BB7AE3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E72FA-B4DC-47CE-9C3A-84A2E827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89B-8F09-48EF-B1CA-455672AA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1C7C-C928-483E-B067-C4468D75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CD1B-044A-4744-967E-48778FF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5D1A-C3E2-46B8-8237-A0D7BE49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4A39-4D84-4A62-A6DC-2BF587FF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44CE-070A-47F5-B4BA-5D2118D3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5806F-C670-4B87-A7F3-8EF1B37D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C69F8-B0C3-48E6-A940-E2E3A8EB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8EC24-F5E6-4022-989A-82F95172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68EA4-8ADD-48A1-BAFD-29BE57CD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B0A9-786F-4AB5-8AEF-73826E81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5AB-3C2E-4823-A0DC-482778D6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C7F9-34AD-4527-880C-27B882B8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725B-CAC0-42B0-9C66-A28EB73F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5386E-E4D4-456A-B72F-83640DE7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2E815-3AF3-4EE1-95C0-14140D1E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84B16-3150-4034-9094-A80B167A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1589-5077-4C0A-8451-6331A5D4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E6101-32F5-4EB8-A306-AE84C01C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A6A4-6F21-4C85-BC05-7817AF5E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D201-2D38-4951-ADCE-604B8CF7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9AF-2D52-4609-907B-86B81214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35C-560B-4B7F-BBDE-FF1B95A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B13-D84E-43F8-8039-FE34E4B1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715-B0B6-414C-A56F-881A016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999-2B77-44D6-8DAC-6050D8BD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A37E-2768-4665-9863-A50F387AB6E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69DB-BE5F-4CFD-A5CC-4C19B501B81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8F91-0A6A-4EB9-8153-D3B23AFCEC7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62D-6F74-40F1-A038-E01106943E4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Звіт про ро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Муніципальної інспек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Житомирської міської ра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за 2022 рі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395280" y="112536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Comic Sans MS"/>
              </a:rPr>
              <a:t>До скла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Comic Sans MS"/>
              </a:rPr>
              <a:t>муніципальної інспекції вход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c911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Сектор з питань благоустр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2. Сектор контролю за паркуван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3. Сектор підготовки адміністративних постан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395280" y="549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</a:rPr>
              <a:t>Завдання інспекції у сфері благоустр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58920" y="1229760"/>
            <a:ext cx="6984720" cy="49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2a5010"/>
                </a:solidFill>
                <a:latin typeface="Times New Roman"/>
                <a:ea typeface="SimSun"/>
              </a:rPr>
              <a:t> </a:t>
            </a:r>
            <a:r>
              <a:rPr b="1" i="1" lang="uk-UA" sz="1200" spc="-1" strike="noStrike">
                <a:solidFill>
                  <a:srgbClr val="2a5010"/>
                </a:solidFill>
                <a:latin typeface="Times New Roman"/>
                <a:ea typeface="SimSun"/>
              </a:rPr>
              <a:t>-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контролю за дотриманням діючого законодавства про благоустрій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  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населених пункт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контролю в сфері незаконної торгівлі на вулицях міста, в тому числі незаконної торгівлі з рук у невстановлених для цього місцях, в межах повноваж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проведення роз’яснювальних та інформаційних заходів з метою </a:t>
            </a:r>
            <a:r>
              <a:rPr b="1" i="1" lang="ru-RU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створення умов для реалізації прав та виконання обов’язків суб’єктами  у  сфері  благоустрою  населених  пунктів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профілактичних заходів з метою запобігання правопорушенням в сфері благоустрою, торгівлі, зовнішньої реклами тощо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здійснення контролю за виданими паспортами прив’язки на тимчасові споруди відповідності умовам видачі та схемі розміщення тимчасової споруд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організація виконання рішень Житомирської міської ради, її виконавчого комітету, направлених на виникнення, зміну або припинення прав та обов’язків суб’єктів господарювання та фізичних осіб в сфері благоустрою міста, зовнішньої реклами, незаконної торгівлі в межах повноважень тощ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надання консультативної допомоги юридичним та фізичним особам в межах компетенції Інспек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здійснення розгляду звернень громадян та прийом громадян з питань, що відносяться до повноважень тощ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61128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  <a:ea typeface="Times New Roman"/>
              </a:rPr>
              <a:t>Завдання у сфері парку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96720" y="1185840"/>
            <a:ext cx="6912000" cy="47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контроль за дотриманням законодавства в сфері паркування транспортних засобів та їх тимчасового затримання у м. Житомирі (Правил паркування транспортних засобів, Правил дорожнього руху та інших нормативно-правових актів, що регулюють сферу паркування транспортних засобі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оведення профілактичних заходів щодо недопущення  вчинення правопорушень в сфері паркування транспортних засоб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тягнення винних осіб до відповідальності за порушення законодавства в сфері паркування транспортних засобів у м. Житомир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розробка та внесення пропозицій щодо формування державної політики з питань контролю за дотримання законодавства про організацію паркування транспортних засобів і безпеки дорожнього рух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складання постанов про адміністративні правопорушення щодо порушень, розгляд яких належить до компетенції Інспек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фіксування правопорушень та прийняття рішень щодо притягнення до адміністративної відповідальності осіб, які вчиняють правопорушення в сфері паркування транспортних засобів тощ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"/>
          <p:cNvSpPr/>
          <p:nvPr/>
        </p:nvSpPr>
        <p:spPr>
          <a:xfrm>
            <a:off x="324000" y="404640"/>
            <a:ext cx="7127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</a:rPr>
              <a:t>Показники діяльності муніципальної інспекції у 2022 роц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йнято документів (заяви, скарги, листи, повідомлення) – 186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Зареєстровано вихідних документів інспекції  - 9314, в тому числ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щодо направлення постанов про накладення адміністративних стягнень – 571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щодо направлення постанов про накладення адміністративних стягнень для примусового виконання – 30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2"/>
          <p:cNvGraphicFramePr/>
          <p:nvPr/>
        </p:nvGraphicFramePr>
        <p:xfrm>
          <a:off x="0" y="1217520"/>
          <a:ext cx="9290160" cy="58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7520"/>
                    <a:ext cx="929016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3"/>
          <p:cNvSpPr/>
          <p:nvPr/>
        </p:nvSpPr>
        <p:spPr>
          <a:xfrm>
            <a:off x="-39672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Протоколи муніципальної інспекції за видами правопорушень 2022 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Всього - 5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1020600"/>
          <a:ext cx="9302760" cy="583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0600"/>
                    <a:ext cx="930276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иписи муніципальної інспекції за видами правопорушень за 2022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сього - 17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539640" y="765000"/>
            <a:ext cx="71992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86113"/>
                </a:solidFill>
                <a:latin typeface="Comic Sans MS"/>
                <a:ea typeface="Times New Roman"/>
              </a:rPr>
              <a:t>Показники діяльності муніципальної інспекції у 2022 році у сфері парк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- </a:t>
            </a: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зафіксовано порушень Правил дорожнього руху в частині зупинки, стоянки транспортних засобів – 2055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направлено постанов про накладення адміністративних стягнень для виконання – 571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передано постанов про накладення адміністративних стягнень до державної виконавчої служби для примусового їх виконання – 30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8:03:18Z</dcterms:created>
  <dc:creator>Гайова</dc:creator>
  <dc:description/>
  <dc:language>en-US</dc:language>
  <cp:lastModifiedBy>user</cp:lastModifiedBy>
  <cp:lastPrinted>2018-02-09T07:23:27Z</cp:lastPrinted>
  <dcterms:modified xsi:type="dcterms:W3CDTF">2023-01-16T09:27:16Z</dcterms:modified>
  <cp:revision>224</cp:revision>
  <dc:subject/>
  <dc:title>Слайд 1</dc:title>
</cp:coreProperties>
</file>