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5DA0-9A41-45C9-8AA7-5BB26F3D4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3994-3299-4DFA-966E-410A11CA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71ED-C292-4325-BAAC-254100D4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0208-8452-40BF-90B3-EFF05A5B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1E9D-E60C-4ED5-856E-F83C2108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57B4-83A3-415A-BF6C-802DA38A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953A-65A6-4483-9590-9E3561C4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22CC-57AD-48A1-A48C-7B287D6D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C82F-96B9-4149-884E-258348AF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F10C-27B0-4465-9696-83BEE0E9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ABC5-8A11-4055-960F-6EFCFB49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780E-6700-42BA-8ECD-CAB3A0BB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6ECD-C950-468C-A155-F96E93D2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10EC-E34E-42F2-813C-C6C93C2E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D9B0-83E0-43C0-AAD9-1B584A21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F94B-593F-4C62-AE83-B439CE81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2138-A85C-433C-9043-B7C6BA024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86B1D-1AC6-41B4-8E4D-6830A235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D2E97-C945-4254-B91A-AE0C2DB9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0D685-153D-4E3F-9A7A-1649E666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524C4-02EF-4EDF-A9D8-07A62A7B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CD7D7-933B-42F9-A160-AFF4D550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FB0C-CF47-4362-8260-5B3C3E53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01F92-65A2-40DB-9387-C0DE2F6B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6D4B1-434C-444A-A8F6-D4E3E2C5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A0879-BBC3-4E50-800A-A2CBFE87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B555D-68B7-4C26-9642-7666C732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77C47-D749-4986-9797-AA83B3F8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6C9DD-F8E9-4D2A-9454-A3D1F270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E5E6B-2D1C-41F6-8FA1-9123FF38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3D64D-BE11-4D9F-BB75-3ED88667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E1ED8-6D28-460F-B841-5EAD63BE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EC0F4-D0AB-498A-81EE-7CC01154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7F41-3E6C-4409-98D3-C858DA1D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BA69F-B52B-4B3B-A8B6-F2A7FA92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C6049-6BA1-4A0C-8F0F-38198DF5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3DB22-08B7-467C-8392-DDC13994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0F5BF-837C-41AD-B372-230532A1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F9153-740A-4EF9-98E4-B6AEA361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4E650-18EE-4D66-BC1A-A25E8AD0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C8D12-EDFA-4BFB-92C8-25E38945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F5DEB-3190-4C99-8409-201008EE1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F439F-FC9E-4EF0-A5E1-4573461FB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BCCF-EEE9-465D-9A49-676E4AFE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2547-77DB-4A76-B312-A2DCFE0C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9340-E3EF-4892-8C8E-DE72BAD0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7422-256F-44E2-A23A-28729D13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3B98-7188-4166-9A5D-B4E50A8C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0CAC-9E12-4347-839C-7E66DB54A262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EA0D-94AA-430A-8CC1-4EC587B210BE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9217-3A54-488B-8FB0-F1A455902B85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3508-83E5-47A2-A805-65ED78A84B0E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3"/>
          <p:cNvSpPr/>
          <p:nvPr/>
        </p:nvSpPr>
        <p:spPr>
          <a:xfrm>
            <a:off x="468360" y="227664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86113"/>
                </a:solidFill>
                <a:latin typeface="Comic Sans MS"/>
              </a:rPr>
              <a:t>Звіт про робо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86113"/>
                </a:solidFill>
                <a:latin typeface="Comic Sans MS"/>
              </a:rPr>
              <a:t>Муніципальної інспекці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86113"/>
                </a:solidFill>
                <a:latin typeface="Comic Sans MS"/>
              </a:rPr>
              <a:t>Житомирської міської рад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86113"/>
                </a:solidFill>
                <a:latin typeface="Comic Sans MS"/>
              </a:rPr>
              <a:t>за 2023 рі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"/>
          <p:cNvSpPr/>
          <p:nvPr/>
        </p:nvSpPr>
        <p:spPr>
          <a:xfrm>
            <a:off x="468360" y="227664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1"/>
          <p:cNvSpPr/>
          <p:nvPr/>
        </p:nvSpPr>
        <p:spPr>
          <a:xfrm>
            <a:off x="395280" y="1125360"/>
            <a:ext cx="741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86113"/>
                </a:solidFill>
                <a:latin typeface="Comic Sans MS"/>
              </a:rPr>
              <a:t>До скла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86113"/>
                </a:solidFill>
                <a:latin typeface="Comic Sans MS"/>
              </a:rPr>
              <a:t>муніципальної інспекції входя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c911d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c911d"/>
                </a:solidFill>
                <a:latin typeface="Comic Sans MS"/>
              </a:rPr>
              <a:t>Сектор з питань благоустро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c911d"/>
                </a:solidFill>
                <a:latin typeface="Comic Sans MS"/>
              </a:rPr>
              <a:t>2. Сектор контролю за паркуванн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c911d"/>
                </a:solidFill>
                <a:latin typeface="Comic Sans MS"/>
              </a:rPr>
              <a:t>3. Сектор підготовки адміністративних постанов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468360" y="227664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1"/>
          <p:cNvSpPr/>
          <p:nvPr/>
        </p:nvSpPr>
        <p:spPr>
          <a:xfrm>
            <a:off x="395280" y="549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86113"/>
                </a:solidFill>
                <a:latin typeface="Comic Sans MS"/>
              </a:rPr>
              <a:t>Завдання інспекції у сфері благоустро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358920" y="1229760"/>
            <a:ext cx="6984720" cy="493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2a5010"/>
                </a:solidFill>
                <a:latin typeface="Times New Roman"/>
                <a:ea typeface="SimSun"/>
              </a:rPr>
              <a:t> </a:t>
            </a:r>
            <a:r>
              <a:rPr b="1" i="1" lang="uk-UA" sz="1200" spc="-1" strike="noStrike">
                <a:solidFill>
                  <a:srgbClr val="2a5010"/>
                </a:solidFill>
                <a:latin typeface="Times New Roman"/>
                <a:ea typeface="SimSun"/>
              </a:rPr>
              <a:t>- </a:t>
            </a: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здійснення контролю за дотриманням діючого законодавства про благоустрій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   </a:t>
            </a: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населених пункті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здійснення контролю в сфері незаконної торгівлі на вулицях міста, в тому числі незаконної торгівлі з рук у невстановлених для цього місцях, в межах повноважен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проведення роз’яснювальних та інформаційних заходів з метою </a:t>
            </a:r>
            <a:r>
              <a:rPr b="1" i="1" lang="ru-RU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створення умов для реалізації прав та виконання обов’язків суб’єктами  у  сфері  благоустрою  населених  пунктів</a:t>
            </a: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здійснення профілактичних заходів з метою запобігання правопорушенням в сфері благоустрою, торгівлі, зовнішньої реклами тощо</a:t>
            </a: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华文新魏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华文新魏"/>
              </a:rPr>
              <a:t>здійснення контролю за виданими паспортами прив’язки на тимчасові споруди відповідності умовам видачі та схемі розміщення тимчасової споруд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华文新魏"/>
              </a:rPr>
              <a:t>організація виконання рішень Житомирської міської ради, її виконавчого комітету, направлених на виникнення, зміну або припинення прав та обов’язків суб’єктів господарювання та фізичних осіб в сфері благоустрою міста, зовнішньої реклами, незаконної торгівлі в межах повноважень тощ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华文新魏"/>
              </a:rPr>
              <a:t>надання консультативної допомоги юридичним та фізичним особам в межах компетенції Інспекції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华文新魏"/>
              </a:rPr>
              <a:t>здійснення розгляду звернень громадян та прийом громадян з питань, що відносяться до повноважень тощ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5010"/>
                </a:solidFill>
                <a:latin typeface="Times New Roman"/>
                <a:ea typeface="华文新魏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"/>
          <p:cNvSpPr/>
          <p:nvPr/>
        </p:nvSpPr>
        <p:spPr>
          <a:xfrm>
            <a:off x="611280" y="333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86113"/>
                </a:solidFill>
                <a:latin typeface="Comic Sans MS"/>
                <a:ea typeface="Times New Roman"/>
              </a:rPr>
              <a:t>Завдання у сфері паркуван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396720" y="1185840"/>
            <a:ext cx="6912000" cy="473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контроль за дотриманням законодавства в сфері паркування транспортних засобів та їх тимчасового затримання у м. Житомирі (Правил паркування транспортних засобів, Правил дорожнього руху та інших нормативно-правових актів, що регулюють сферу паркування транспортних засобів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проведення профілактичних заходів щодо недопущення  вчинення правопорушень в сфері паркування транспортних засобі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притягнення винних осіб до відповідальності за порушення законодавства в сфері паркування транспортних засобів у м. Житомир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</a:t>
            </a: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розробка та внесення пропозицій щодо формування державної політики з питань контролю за дотримання законодавства про організацію паркування транспортних засобів і безпеки дорожнього рух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складання постанов про адміністративні правопорушення щодо порушень, розгляд яких належить до компетенції Інспекції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фіксування правопорушень та прийняття рішень щодо притягнення до адміністративної відповідальності осіб, які вчиняють правопорушення в сфері паркування транспортних засобів тощ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2a5010"/>
                </a:solidFill>
                <a:latin typeface="Times New Roman"/>
                <a:ea typeface="SimSu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468360" y="227664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"/>
          <p:cNvSpPr/>
          <p:nvPr/>
        </p:nvSpPr>
        <p:spPr>
          <a:xfrm>
            <a:off x="324000" y="404640"/>
            <a:ext cx="712764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86113"/>
                </a:solidFill>
                <a:latin typeface="Comic Sans MS"/>
              </a:rPr>
              <a:t>Показники діяльності муніципальної інспекції у 2023 році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Прийнято документів (заяви, скарги, листи, повідомлення) – 3353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Зареєстровано вихідних документів інспекції  - 10795, в тому числі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щодо направлення постанов про накладення адміністративних стягнень – 607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a501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</a:t>
            </a:r>
            <a:r>
              <a:rPr b="1" i="1" lang="uk-UA" sz="18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щодо направлення постанов про накладення адміністративних стягнень для примусового виконання – 363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Object 2"/>
          <p:cNvGraphicFramePr/>
          <p:nvPr/>
        </p:nvGraphicFramePr>
        <p:xfrm>
          <a:off x="0" y="1217520"/>
          <a:ext cx="9290160" cy="582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7520"/>
                    <a:ext cx="929016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Rectangle 3"/>
          <p:cNvSpPr/>
          <p:nvPr/>
        </p:nvSpPr>
        <p:spPr>
          <a:xfrm>
            <a:off x="-39672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Протоколи муніципальної інспекції за видами правопорушень 2023 рі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Всього - 10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2"/>
          <p:cNvGraphicFramePr/>
          <p:nvPr/>
        </p:nvGraphicFramePr>
        <p:xfrm>
          <a:off x="0" y="1020600"/>
          <a:ext cx="9302760" cy="583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20600"/>
                    <a:ext cx="9302760" cy="583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3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Приписи муніципальної інспекції за видами правопорушень за 2023 рі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Всього - 25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468360" y="227664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1"/>
          <p:cNvSpPr/>
          <p:nvPr/>
        </p:nvSpPr>
        <p:spPr>
          <a:xfrm>
            <a:off x="539640" y="765000"/>
            <a:ext cx="719928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86113"/>
                </a:solidFill>
                <a:latin typeface="Comic Sans MS"/>
                <a:ea typeface="Times New Roman"/>
              </a:rPr>
              <a:t>Показники діяльності муніципальної інспекції у 2023 році у сфері паркуван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86113"/>
                </a:solidFill>
                <a:latin typeface="Times New Roman"/>
                <a:ea typeface="Times New Roman"/>
              </a:rPr>
              <a:t>- </a:t>
            </a:r>
            <a:r>
              <a:rPr b="1" i="1" lang="uk-UA" sz="2000" spc="-1" strike="noStrike">
                <a:solidFill>
                  <a:srgbClr val="486113"/>
                </a:solidFill>
                <a:latin typeface="Times New Roman"/>
                <a:ea typeface="Times New Roman"/>
              </a:rPr>
              <a:t>зафіксовано порушень Правил дорожнього руху в частині зупинки, стоянки транспортних засобів більше 20тисяч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6113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86113"/>
                </a:solidFill>
                <a:latin typeface="Times New Roman"/>
                <a:ea typeface="Times New Roman"/>
              </a:rPr>
              <a:t>направлено постанов про накладення адміністративних стягнень для виконання – 607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6113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86113"/>
                </a:solidFill>
                <a:latin typeface="Times New Roman"/>
                <a:ea typeface="Times New Roman"/>
              </a:rPr>
              <a:t>передано постанов про накладення адміністративних стягнень до державної виконавчої служби для примусового їх виконання – 363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6113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08:03:18Z</dcterms:created>
  <dc:creator>Гайова</dc:creator>
  <dc:description/>
  <dc:language>en-US</dc:language>
  <cp:lastModifiedBy>user</cp:lastModifiedBy>
  <cp:lastPrinted>2024-07-30T08:52:20Z</cp:lastPrinted>
  <dcterms:modified xsi:type="dcterms:W3CDTF">2024-07-30T12:42:03Z</dcterms:modified>
  <cp:revision>234</cp:revision>
  <dc:subject/>
  <dc:title>Слайд 1</dc:title>
</cp:coreProperties>
</file>